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1.png" ContentType="image/png"/>
  <Override PartName="/ppt/media/image16.png" ContentType="image/png"/>
  <Override PartName="/ppt/media/image84.png" ContentType="image/png"/>
  <Override PartName="/ppt/media/image7.png" ContentType="image/png"/>
  <Override PartName="/ppt/media/image5.png" ContentType="image/png"/>
  <Override PartName="/ppt/media/image17.png" ContentType="image/png"/>
  <Override PartName="/ppt/media/image85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118.png" ContentType="image/png"/>
  <Override PartName="/ppt/media/image21.png" ContentType="image/png"/>
  <Override PartName="/ppt/media/image47.png" ContentType="image/png"/>
  <Override PartName="/ppt/media/image15.png" ContentType="image/png"/>
  <Override PartName="/ppt/media/image83.png" ContentType="image/png"/>
  <Override PartName="/ppt/media/image6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48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4.jpeg" ContentType="image/jpeg"/>
  <Override PartName="/ppt/media/image80.png" ContentType="image/png"/>
  <Override PartName="/ppt/media/image12.png" ContentType="image/png"/>
  <Override PartName="/ppt/media/image128.jpeg" ContentType="image/jpeg"/>
  <Override PartName="/ppt/media/image109.png" ContentType="image/png"/>
  <Override PartName="/ppt/media/image49.png" ContentType="image/png"/>
  <Override PartName="/ppt/media/image100.png" ContentType="image/png"/>
  <Override PartName="/ppt/media/image40.png" ContentType="image/png"/>
  <Override PartName="/ppt/media/image52.png" ContentType="image/png"/>
  <Override PartName="/ppt/media/image8.png" ContentType="image/png"/>
  <Override PartName="/ppt/media/image30.png" ContentType="image/png"/>
  <Override PartName="/ppt/media/image3.jpeg" ContentType="image/jpeg"/>
  <Override PartName="/ppt/media/image41.png" ContentType="image/png"/>
  <Override PartName="/ppt/media/image53.png" ContentType="image/png"/>
  <Override PartName="/ppt/media/image54.png" ContentType="image/png"/>
  <Override PartName="/ppt/media/image43.png" ContentType="image/png"/>
  <Override PartName="/ppt/media/image82.png" ContentType="image/png"/>
  <Override PartName="/ppt/media/image14.png" ContentType="image/png"/>
  <Override PartName="/ppt/media/image25.png" ContentType="image/png"/>
  <Override PartName="/ppt/media/image9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50.png" ContentType="image/png"/>
  <Override PartName="/ppt/media/image42.png" ContentType="image/png"/>
  <Override PartName="/ppt/media/image2.jpeg" ContentType="image/jpeg"/>
  <Override PartName="/ppt/media/image9.png" ContentType="image/png"/>
  <Override PartName="/ppt/media/image31.png" ContentType="image/png"/>
  <Override PartName="/ppt/media/image34.png" ContentType="image/png"/>
  <Override PartName="/ppt/media/image39.png" ContentType="image/png"/>
  <Override PartName="/ppt/media/image33.png" ContentType="image/png"/>
  <Override PartName="/ppt/media/image32.png" ContentType="image/png"/>
  <Override PartName="/ppt/media/image38.png" ContentType="image/png"/>
  <Override PartName="/ppt/media/image37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4.png" ContentType="image/png"/>
  <Override PartName="/ppt/media/image26.png" ContentType="image/png"/>
  <Override PartName="/ppt/media/image91.png" ContentType="image/png"/>
  <Override PartName="/ppt/media/image23.png" ContentType="image/png"/>
  <Override PartName="/ppt/media/image24.png" ContentType="image/png"/>
  <Override PartName="/ppt/media/image92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79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1.jpeg" ContentType="image/jpe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media/image104.png" ContentType="image/png"/>
  <Override PartName="/ppt/media/image105.png" ContentType="image/png"/>
  <Override PartName="/ppt/media/image106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media/image115.png" ContentType="image/png"/>
  <Override PartName="/ppt/media/image116.png" ContentType="image/png"/>
  <Override PartName="/ppt/media/image121.png" ContentType="image/png"/>
  <Override PartName="/ppt/media/image122.png" ContentType="image/png"/>
  <Override PartName="/ppt/media/image123.png" ContentType="image/png"/>
  <Override PartName="/ppt/media/image124.png" ContentType="image/png"/>
  <Override PartName="/ppt/media/image125.png" ContentType="image/png"/>
  <Override PartName="/ppt/media/image127.jpeg" ContentType="image/jpeg"/>
  <Override PartName="/ppt/media/image1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43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7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144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47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56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54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14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CACA-03E3-4362-90A5-3BAC9E33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E52A-F4DE-4A63-9FDB-BCE0C7B5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4373-7E72-4A7A-A8F1-CC387875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EEFB-C194-4B63-A2FA-EF510F34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705C-66D8-4D79-950D-F821D419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5859-6956-4013-B92F-8E3D99C1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EBB4-3B2C-4863-B090-DB2B2318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72D1-FBE5-43CE-9379-010A30F5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A324-38A5-4739-B6E0-E2F890A9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C895-B885-48FE-A1D1-5FC5A741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8E81-2A66-44DC-AB62-B2FB3E4D2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14DC-8346-4AB1-978B-72C2224EA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17800" y="0"/>
            <a:ext cx="307116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第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Arial"/>
              </a:rPr>
              <a:t>4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章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Arial"/>
              </a:rPr>
              <a:t>   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电子表格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Arial"/>
              </a:rPr>
              <a:t>Excel 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638680" y="6095880"/>
            <a:ext cx="3505320" cy="22716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8edab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未标题-1%20副本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876920" y="6400800"/>
            <a:ext cx="175248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D2D2-555B-4CF6-99AA-41A58252599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40.xml"/><Relationship Id="rId7" Type="http://schemas.openxmlformats.org/officeDocument/2006/relationships/slide" Target="slide40.xml"/><Relationship Id="rId8" Type="http://schemas.openxmlformats.org/officeDocument/2006/relationships/slide" Target="slide40.xml"/><Relationship Id="rId9" Type="http://schemas.openxmlformats.org/officeDocument/2006/relationships/slide" Target="slide65.xml"/><Relationship Id="rId10" Type="http://schemas.openxmlformats.org/officeDocument/2006/relationships/slide" Target="slide65.xml"/><Relationship Id="rId11" Type="http://schemas.openxmlformats.org/officeDocument/2006/relationships/slide" Target="slide65.xml"/><Relationship Id="rId12" Type="http://schemas.openxmlformats.org/officeDocument/2006/relationships/slide" Target="slide85.xml"/><Relationship Id="rId13" Type="http://schemas.openxmlformats.org/officeDocument/2006/relationships/slide" Target="slide85.xml"/><Relationship Id="rId14" Type="http://schemas.openxmlformats.org/officeDocument/2006/relationships/slide" Target="slide85.xml"/><Relationship Id="rId15" Type="http://schemas.openxmlformats.org/officeDocument/2006/relationships/slide" Target="slide85.xml"/><Relationship Id="rId16" Type="http://schemas.openxmlformats.org/officeDocument/2006/relationships/slide" Target="slide118.xml"/><Relationship Id="rId17" Type="http://schemas.openxmlformats.org/officeDocument/2006/relationships/slide" Target="slide118.xml"/><Relationship Id="rId18" Type="http://schemas.openxmlformats.org/officeDocument/2006/relationships/slide" Target="slide118.xml"/><Relationship Id="rId19" Type="http://schemas.openxmlformats.org/officeDocument/2006/relationships/slide" Target="slide138.xml"/><Relationship Id="rId20" Type="http://schemas.openxmlformats.org/officeDocument/2006/relationships/slide" Target="slide138.xml"/><Relationship Id="rId21" Type="http://schemas.openxmlformats.org/officeDocument/2006/relationships/slide" Target="slide138.xml"/><Relationship Id="rId2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6.xml"/><Relationship Id="rId8" Type="http://schemas.openxmlformats.org/officeDocument/2006/relationships/slide" Target="slide16.xml"/><Relationship Id="rId9" Type="http://schemas.openxmlformats.org/officeDocument/2006/relationships/slide" Target="slide21.xml"/><Relationship Id="rId10" Type="http://schemas.openxmlformats.org/officeDocument/2006/relationships/slide" Target="slide21.xml"/><Relationship Id="rId11" Type="http://schemas.openxmlformats.org/officeDocument/2006/relationships/slide" Target="slide31.xml"/><Relationship Id="rId12" Type="http://schemas.openxmlformats.org/officeDocument/2006/relationships/slide" Target="slide31.xml"/><Relationship Id="rId13" Type="http://schemas.openxmlformats.org/officeDocument/2006/relationships/slide" Target="slide34.xml"/><Relationship Id="rId14" Type="http://schemas.openxmlformats.org/officeDocument/2006/relationships/slide" Target="slide34.xml"/><Relationship Id="rId15" Type="http://schemas.openxmlformats.org/officeDocument/2006/relationships/slide" Target="slide34.xml"/><Relationship Id="rId16" Type="http://schemas.openxmlformats.org/officeDocument/2006/relationships/image" Target="../media/image3.jpeg"/><Relationship Id="rId17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image" Target="../media/image93.png"/><Relationship Id="rId4" Type="http://schemas.openxmlformats.org/officeDocument/2006/relationships/image" Target="../media/image94.png"/><Relationship Id="rId5" Type="http://schemas.openxmlformats.org/officeDocument/2006/relationships/image" Target="../media/image95.png"/><Relationship Id="rId6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" Target="slide119.xml"/><Relationship Id="rId2" Type="http://schemas.openxmlformats.org/officeDocument/2006/relationships/slide" Target="slide119.xml"/><Relationship Id="rId3" Type="http://schemas.openxmlformats.org/officeDocument/2006/relationships/slide" Target="slide129.xml"/><Relationship Id="rId4" Type="http://schemas.openxmlformats.org/officeDocument/2006/relationships/slide" Target="slide129.xm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image" Target="../media/image106.png"/><Relationship Id="rId3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image" Target="../media/image112.png"/><Relationship Id="rId3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1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20.png"/><Relationship Id="rId2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22.png"/><Relationship Id="rId2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24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2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7.jpeg"/><Relationship Id="rId3" Type="http://schemas.openxmlformats.org/officeDocument/2006/relationships/image" Target="../media/image12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9.xml"/><Relationship Id="rId13" Type="http://schemas.openxmlformats.org/officeDocument/2006/relationships/slide" Target="slide9.xml"/><Relationship Id="rId14" Type="http://schemas.openxmlformats.org/officeDocument/2006/relationships/image" Target="../media/image3.jpeg"/><Relationship Id="rId1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" Target="slide41.xml"/><Relationship Id="rId3" Type="http://schemas.openxmlformats.org/officeDocument/2006/relationships/slide" Target="slide45.xml"/><Relationship Id="rId4" Type="http://schemas.openxmlformats.org/officeDocument/2006/relationships/slide" Target="slide45.xml"/><Relationship Id="rId5" Type="http://schemas.openxmlformats.org/officeDocument/2006/relationships/slide" Target="slide47.xml"/><Relationship Id="rId6" Type="http://schemas.openxmlformats.org/officeDocument/2006/relationships/slide" Target="slide47.xml"/><Relationship Id="rId7" Type="http://schemas.openxmlformats.org/officeDocument/2006/relationships/slide" Target="slide48.xml"/><Relationship Id="rId8" Type="http://schemas.openxmlformats.org/officeDocument/2006/relationships/slide" Target="slide48.xml"/><Relationship Id="rId9" Type="http://schemas.openxmlformats.org/officeDocument/2006/relationships/slide" Target="slide51.xml"/><Relationship Id="rId10" Type="http://schemas.openxmlformats.org/officeDocument/2006/relationships/slide" Target="slide51.xml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6.xml"/><Relationship Id="rId3" Type="http://schemas.openxmlformats.org/officeDocument/2006/relationships/slide" Target="slide69.xml"/><Relationship Id="rId4" Type="http://schemas.openxmlformats.org/officeDocument/2006/relationships/slide" Target="slide69.xml"/><Relationship Id="rId5" Type="http://schemas.openxmlformats.org/officeDocument/2006/relationships/slide" Target="slide74.xml"/><Relationship Id="rId6" Type="http://schemas.openxmlformats.org/officeDocument/2006/relationships/slide" Target="slide74.xml"/><Relationship Id="rId7" Type="http://schemas.openxmlformats.org/officeDocument/2006/relationships/slide" Target="slide83.xml"/><Relationship Id="rId8" Type="http://schemas.openxmlformats.org/officeDocument/2006/relationships/slide" Target="slide83.xml"/><Relationship Id="rId9" Type="http://schemas.openxmlformats.org/officeDocument/2006/relationships/slide" Target="slide83.xml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slide" Target="slide86.xml"/><Relationship Id="rId3" Type="http://schemas.openxmlformats.org/officeDocument/2006/relationships/slide" Target="slide89.xml"/><Relationship Id="rId4" Type="http://schemas.openxmlformats.org/officeDocument/2006/relationships/slide" Target="slide89.xml"/><Relationship Id="rId5" Type="http://schemas.openxmlformats.org/officeDocument/2006/relationships/slide" Target="slide95.xml"/><Relationship Id="rId6" Type="http://schemas.openxmlformats.org/officeDocument/2006/relationships/slide" Target="slide95.xml"/><Relationship Id="rId7" Type="http://schemas.openxmlformats.org/officeDocument/2006/relationships/slide" Target="slide106.xml"/><Relationship Id="rId8" Type="http://schemas.openxmlformats.org/officeDocument/2006/relationships/slide" Target="slide106.xml"/><Relationship Id="rId9" Type="http://schemas.openxmlformats.org/officeDocument/2006/relationships/slide" Target="slide112.xml"/><Relationship Id="rId10" Type="http://schemas.openxmlformats.org/officeDocument/2006/relationships/slide" Target="slide112.xml"/><Relationship Id="rId11" Type="http://schemas.openxmlformats.org/officeDocument/2006/relationships/slide" Target="slide112.xml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章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电子表格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Excel 2000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4.1 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Excel 2000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3" action="ppaction://hlinksldjump"/>
              </a:rPr>
              <a:t>中文版的启动与退出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4.2 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5" action="ppaction://hlinksldjump"/>
              </a:rPr>
              <a:t>创建表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6" action="ppaction://hlinksldjump"/>
              </a:rPr>
              <a:t>4.3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hlinkClick r:id="rId7" action="ppaction://hlinksldjump"/>
              </a:rPr>
              <a:t>工作表的编辑和格式化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9" action="ppaction://hlinksldjump"/>
              </a:rPr>
              <a:t>4.4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hlinkClick r:id="rId10" action="ppaction://hlinksldjump"/>
              </a:rPr>
              <a:t>创建图表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12" action="ppaction://hlinksldjump"/>
              </a:rPr>
              <a:t>4.5 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13" action="ppaction://hlinksldjump"/>
              </a:rPr>
              <a:t>Excel 2000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hlinkClick r:id="rId14" action="ppaction://hlinksldjump"/>
              </a:rPr>
              <a:t>的数据处理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15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16" action="ppaction://hlinksldjump"/>
              </a:rPr>
              <a:t>4.6 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hlinkClick r:id="rId17" action="ppaction://hlinksldjump"/>
              </a:rPr>
              <a:t>建立和编辑数据透视表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18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19" action="ppaction://hlinksldjump"/>
              </a:rPr>
              <a:t>4.7 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hlinkClick r:id="rId20" action="ppaction://hlinksldjump"/>
              </a:rPr>
              <a:t>页面设置和打印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21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2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创建表格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4.2.1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2" action="ppaction://hlinksldjump"/>
              </a:rPr>
              <a:t>工作簿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4.2.2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4" action="ppaction://hlinksldjump"/>
              </a:rPr>
              <a:t>选择工作表、单元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4.2.3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6" action="ppaction://hlinksldjump"/>
              </a:rPr>
              <a:t>输入数据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4.2.4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8" action="ppaction://hlinksldjump"/>
              </a:rPr>
              <a:t>数据自动输入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4.2.5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10" action="ppaction://hlinksldjump"/>
              </a:rPr>
              <a:t>公式与函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4.2.6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12" action="ppaction://hlinksldjump"/>
              </a:rPr>
              <a:t>单元格引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4.2.7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14" action="ppaction://hlinksldjump"/>
              </a:rPr>
              <a:t>数据编辑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15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未标题-3" descr="">
            <a:hlinkClick r:id="" action="ppaction://hlinkshowjump?jump=firstslide"/>
          </p:cNvPr>
          <p:cNvPicPr/>
          <p:nvPr/>
        </p:nvPicPr>
        <p:blipFill>
          <a:blip r:embed="rId16"/>
          <a:stretch/>
        </p:blipFill>
        <p:spPr>
          <a:xfrm>
            <a:off x="7188120" y="6477120"/>
            <a:ext cx="1955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自定义筛选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2424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6" name="未标题-19" descr=""/>
          <p:cNvPicPr/>
          <p:nvPr/>
        </p:nvPicPr>
        <p:blipFill>
          <a:blip r:embed="rId1"/>
          <a:stretch/>
        </p:blipFill>
        <p:spPr>
          <a:xfrm>
            <a:off x="1676520" y="2155680"/>
            <a:ext cx="5562360" cy="280224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2720520" y="5334120"/>
            <a:ext cx="37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83   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自定义自动筛选方式”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  <a:ea typeface="楷体_GB2312"/>
            </a:endParaRPr>
          </a:p>
        </p:txBody>
      </p:sp>
      <p:sp>
        <p:nvSpPr>
          <p:cNvPr id="509" name=""/>
          <p:cNvSpPr/>
          <p:nvPr/>
        </p:nvSpPr>
        <p:spPr>
          <a:xfrm>
            <a:off x="255276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0" name="未命名 -2" descr=""/>
          <p:cNvPicPr/>
          <p:nvPr/>
        </p:nvPicPr>
        <p:blipFill>
          <a:blip r:embed="rId1"/>
          <a:stretch/>
        </p:blipFill>
        <p:spPr>
          <a:xfrm>
            <a:off x="1371600" y="2819520"/>
            <a:ext cx="7277040" cy="190476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3484800" y="510552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84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筛选结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高级筛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如果用户要使用高级筛选，一定要先建立一个条件区域。条件区域用来指定筛选的数据必须满足的条件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003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5" name="Untitled-4" descr=""/>
          <p:cNvPicPr/>
          <p:nvPr/>
        </p:nvPicPr>
        <p:blipFill>
          <a:blip r:embed="rId1"/>
          <a:stretch/>
        </p:blipFill>
        <p:spPr>
          <a:xfrm>
            <a:off x="2666880" y="3432240"/>
            <a:ext cx="4648320" cy="251136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380880" y="3809880"/>
            <a:ext cx="1460520" cy="381240"/>
          </a:xfrm>
          <a:prstGeom prst="wedgeRoundRectCallout">
            <a:avLst>
              <a:gd name="adj1" fmla="val 128476"/>
              <a:gd name="adj2" fmla="val 15000"/>
              <a:gd name="adj3" fmla="val 16667"/>
            </a:avLst>
          </a:prstGeom>
          <a:solidFill>
            <a:srgbClr val="99cc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空二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3733920"/>
            <a:ext cx="990360" cy="761760"/>
          </a:xfrm>
          <a:prstGeom prst="wedgeRoundRectCallout">
            <a:avLst>
              <a:gd name="adj1" fmla="val -334777"/>
              <a:gd name="adj2" fmla="val -37083"/>
              <a:gd name="adj3" fmla="val 16667"/>
            </a:avLst>
          </a:prstGeom>
          <a:solidFill>
            <a:srgbClr val="00cc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条件区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227600" y="609588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85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条件区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未标题-16" descr=""/>
          <p:cNvPicPr/>
          <p:nvPr/>
        </p:nvPicPr>
        <p:blipFill>
          <a:blip r:embed="rId1"/>
          <a:stretch/>
        </p:blipFill>
        <p:spPr>
          <a:xfrm>
            <a:off x="2552760" y="2133720"/>
            <a:ext cx="4076640" cy="35575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3206880" y="106668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86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高级筛选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99556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4" name="未命名 -2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6553080" cy="243540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2953800" y="529920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87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筛选结果显示数据表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7" name="未命名 -2" descr=""/>
          <p:cNvPicPr/>
          <p:nvPr/>
        </p:nvPicPr>
        <p:blipFill>
          <a:blip r:embed="rId1"/>
          <a:stretch/>
        </p:blipFill>
        <p:spPr>
          <a:xfrm>
            <a:off x="1476360" y="2286000"/>
            <a:ext cx="5838840" cy="290988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3058920" y="5451480"/>
            <a:ext cx="27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88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复制后的筛选结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620120" y="2438280"/>
            <a:ext cx="1143000" cy="685800"/>
          </a:xfrm>
          <a:prstGeom prst="wedgeRoundRectCallout">
            <a:avLst>
              <a:gd name="adj1" fmla="val -216805"/>
              <a:gd name="adj2" fmla="val 232175"/>
              <a:gd name="adj3" fmla="val 16667"/>
            </a:avLst>
          </a:prstGeom>
          <a:solidFill>
            <a:srgbClr val="00cc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复制的筛选结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0" name="未标题-1%20副本" descr=""/>
          <p:cNvPicPr/>
          <p:nvPr/>
        </p:nvPicPr>
        <p:blipFill>
          <a:blip r:embed="rId2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5.4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数据排序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9714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默认排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按一列排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按多列排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默认排序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Exce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在默认排序时是根据单元格中的数据进行排序的。在按升序排序时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Exce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使用如下顺序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数值从最小的负数到最大的正数排序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文本和数字的文本按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0~9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~z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~Z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顺序排列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逻辑值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False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排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True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之前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所有错误值的优先级相同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空格排在最后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按一列排序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57660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7" name="book1" descr=""/>
          <p:cNvPicPr/>
          <p:nvPr/>
        </p:nvPicPr>
        <p:blipFill>
          <a:blip r:embed="rId1"/>
          <a:stretch/>
        </p:blipFill>
        <p:spPr>
          <a:xfrm>
            <a:off x="2666880" y="2438280"/>
            <a:ext cx="3505320" cy="333720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1069920" y="2049840"/>
            <a:ext cx="546120" cy="40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89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设置排序方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620120" y="2209680"/>
            <a:ext cx="380880" cy="251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580" y="9000"/>
                </a:moveTo>
                <a:lnTo>
                  <a:pt x="-4320" y="982"/>
                </a:lnTo>
              </a:path>
            </a:pathLst>
          </a:custGeom>
          <a:solidFill>
            <a:srgbClr val="ffcc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主关键字排列顺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  <a:ea typeface="楷体_GB2312"/>
            </a:endParaRPr>
          </a:p>
        </p:txBody>
      </p:sp>
      <p:sp>
        <p:nvSpPr>
          <p:cNvPr id="541" name=""/>
          <p:cNvSpPr/>
          <p:nvPr/>
        </p:nvSpPr>
        <p:spPr>
          <a:xfrm>
            <a:off x="3171960" y="26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2" name="Untitled-6" descr=""/>
          <p:cNvPicPr/>
          <p:nvPr/>
        </p:nvPicPr>
        <p:blipFill>
          <a:blip r:embed="rId1"/>
          <a:stretch/>
        </p:blipFill>
        <p:spPr>
          <a:xfrm>
            <a:off x="2424240" y="2514600"/>
            <a:ext cx="5119560" cy="27702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292716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90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按“笔试”字段降序排列之后的结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2.1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工作簿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新建工作簿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打开已有的工作簿文件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保存工作簿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  <a:ea typeface="楷体_GB2312"/>
            </a:endParaRPr>
          </a:p>
        </p:txBody>
      </p:sp>
      <p:sp>
        <p:nvSpPr>
          <p:cNvPr id="545" name=""/>
          <p:cNvSpPr/>
          <p:nvPr/>
        </p:nvSpPr>
        <p:spPr>
          <a:xfrm>
            <a:off x="301464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6" name="Untitled-7" descr=""/>
          <p:cNvPicPr/>
          <p:nvPr/>
        </p:nvPicPr>
        <p:blipFill>
          <a:blip r:embed="rId1"/>
          <a:stretch/>
        </p:blipFill>
        <p:spPr>
          <a:xfrm>
            <a:off x="2209680" y="2514600"/>
            <a:ext cx="5062680" cy="272412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3274560" y="548640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91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以机试降序排列的结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按多列排序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6720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0" name="未标题-36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3048120" cy="290340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926640" y="556272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92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设置多列排序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77164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3" name="Untitled-8" descr=""/>
          <p:cNvPicPr/>
          <p:nvPr/>
        </p:nvPicPr>
        <p:blipFill>
          <a:blip r:embed="rId2"/>
          <a:stretch/>
        </p:blipFill>
        <p:spPr>
          <a:xfrm>
            <a:off x="3809880" y="2666880"/>
            <a:ext cx="5105520" cy="23097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56160" y="5146560"/>
            <a:ext cx="42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93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以笔试为主要关键字，机试为次要关键字的排序结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5" name="未标题-1%20副本" descr=""/>
          <p:cNvPicPr/>
          <p:nvPr/>
        </p:nvPicPr>
        <p:blipFill>
          <a:blip r:embed="rId3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5.5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分类汇总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743200" y="21337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简单的分类汇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创建多级分类汇总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分级显示数据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清除分类汇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简单的分类汇总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4804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0" name="book1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2741400" cy="279576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311472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2" name="book1" descr=""/>
          <p:cNvPicPr/>
          <p:nvPr/>
        </p:nvPicPr>
        <p:blipFill>
          <a:blip r:embed="rId2"/>
          <a:stretch/>
        </p:blipFill>
        <p:spPr>
          <a:xfrm>
            <a:off x="4343400" y="2590920"/>
            <a:ext cx="3962520" cy="256356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5146560" y="533412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95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分类汇总的结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02960" y="556272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94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设置分类汇总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．创建多级分类汇总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00528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7" name="book1" descr=""/>
          <p:cNvPicPr/>
          <p:nvPr/>
        </p:nvPicPr>
        <p:blipFill>
          <a:blip r:embed="rId1"/>
          <a:stretch/>
        </p:blipFill>
        <p:spPr>
          <a:xfrm>
            <a:off x="2073240" y="2133720"/>
            <a:ext cx="4843440" cy="313524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2955240" y="54864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96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设置二级分类汇总的结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分级显示数据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下面介绍分级视图中的各个按钮的功能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一级数据按钮：   只显示数据表格中的列标题和汇总结果，该级为最高级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二级数据按钮：   显示分类汇总结果即二级数据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三级数据按钮：   显示所有的详细数据即三级数据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分级显示按钮：   表示高一级向低一级展开显示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分级显示按钮：   表示低一级折叠为高一级数据显示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50540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2" name="未标题-471" descr=""/>
          <p:cNvPicPr/>
          <p:nvPr/>
        </p:nvPicPr>
        <p:blipFill>
          <a:blip r:embed="rId1"/>
          <a:stretch/>
        </p:blipFill>
        <p:spPr>
          <a:xfrm>
            <a:off x="3235320" y="2590920"/>
            <a:ext cx="399960" cy="4572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449568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4" name="未标题-472" descr=""/>
          <p:cNvPicPr/>
          <p:nvPr/>
        </p:nvPicPr>
        <p:blipFill>
          <a:blip r:embed="rId2"/>
          <a:stretch/>
        </p:blipFill>
        <p:spPr>
          <a:xfrm>
            <a:off x="3179880" y="3581280"/>
            <a:ext cx="430200" cy="45720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449568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6" name="未标题-473" descr=""/>
          <p:cNvPicPr/>
          <p:nvPr/>
        </p:nvPicPr>
        <p:blipFill>
          <a:blip r:embed="rId3"/>
          <a:stretch/>
        </p:blipFill>
        <p:spPr>
          <a:xfrm>
            <a:off x="3179880" y="4191120"/>
            <a:ext cx="430200" cy="45720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449100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8" name="未标题-475" descr=""/>
          <p:cNvPicPr/>
          <p:nvPr/>
        </p:nvPicPr>
        <p:blipFill>
          <a:blip r:embed="rId4"/>
          <a:stretch/>
        </p:blipFill>
        <p:spPr>
          <a:xfrm>
            <a:off x="3179880" y="4724280"/>
            <a:ext cx="461880" cy="46224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448164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0" name="未标题-476" descr=""/>
          <p:cNvPicPr/>
          <p:nvPr/>
        </p:nvPicPr>
        <p:blipFill>
          <a:blip r:embed="rId5"/>
          <a:stretch/>
        </p:blipFill>
        <p:spPr>
          <a:xfrm>
            <a:off x="3255840" y="5410080"/>
            <a:ext cx="39528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82888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3" name="book1" descr=""/>
          <p:cNvPicPr/>
          <p:nvPr/>
        </p:nvPicPr>
        <p:blipFill>
          <a:blip r:embed="rId1"/>
          <a:stretch/>
        </p:blipFill>
        <p:spPr>
          <a:xfrm>
            <a:off x="2019240" y="1905120"/>
            <a:ext cx="4953240" cy="203040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7246440" y="2011320"/>
            <a:ext cx="91188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97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显示一级数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83860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6" name="book1" descr=""/>
          <p:cNvPicPr/>
          <p:nvPr/>
        </p:nvPicPr>
        <p:blipFill>
          <a:blip r:embed="rId2"/>
          <a:stretch/>
        </p:blipFill>
        <p:spPr>
          <a:xfrm>
            <a:off x="2133720" y="4114800"/>
            <a:ext cx="4572000" cy="19224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6722640" y="4191120"/>
            <a:ext cx="16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98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显示前两级数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清除分类汇总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2428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0" name="未标题-2" descr=""/>
          <p:cNvPicPr/>
          <p:nvPr/>
        </p:nvPicPr>
        <p:blipFill>
          <a:blip r:embed="rId1"/>
          <a:stretch/>
        </p:blipFill>
        <p:spPr>
          <a:xfrm>
            <a:off x="1881360" y="2438280"/>
            <a:ext cx="5229000" cy="279576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3303720" y="548640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99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显示明细数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2" name="未标题-1%20副本" descr=""/>
          <p:cNvPicPr/>
          <p:nvPr/>
        </p:nvPicPr>
        <p:blipFill>
          <a:blip r:embed="rId2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6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建立和编辑数据透视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752480" y="20574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4.6.1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2" action="ppaction://hlinksldjump"/>
              </a:rPr>
              <a:t>建立简单的数据透视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4.6.2 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4" action="ppaction://hlinksldjump"/>
              </a:rPr>
              <a:t>编辑数据透视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6.3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数据透视表的操作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未标题-3" descr="">
            <a:hlinkClick r:id="" action="ppaction://hlinkshowjump?jump=firstslide"/>
          </p:cNvPr>
          <p:cNvPicPr/>
          <p:nvPr/>
        </p:nvPicPr>
        <p:blipFill>
          <a:blip r:embed="rId5"/>
          <a:stretch/>
        </p:blipFill>
        <p:spPr>
          <a:xfrm>
            <a:off x="7188120" y="6477120"/>
            <a:ext cx="1955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6.1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建立简单的数据透视表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数据透视表一般由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部分组成，它们是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页字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页字段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数据字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(4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数据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(5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行字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(6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列字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(7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数据区域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93364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book12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4457880" cy="3524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449880" y="5257800"/>
            <a:ext cx="22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6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保文件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未标题-1%20副本" descr=""/>
          <p:cNvPicPr/>
          <p:nvPr/>
        </p:nvPicPr>
        <p:blipFill>
          <a:blip r:embed="rId2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数据透视表的数据源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数据透视表的数据源是透视表的数据来源。数据源可以是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l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数据表格，也可以是外部数据表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上的数据源，还可以是经过合并计算的多个数据区域以及另一个数据透视表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数据透视表和数据透视图向导－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6224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2" name="未标题-52" descr=""/>
          <p:cNvPicPr/>
          <p:nvPr/>
        </p:nvPicPr>
        <p:blipFill>
          <a:blip r:embed="rId1"/>
          <a:stretch/>
        </p:blipFill>
        <p:spPr>
          <a:xfrm>
            <a:off x="2266920" y="2362320"/>
            <a:ext cx="4457880" cy="243972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2011320" y="5029200"/>
            <a:ext cx="49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01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数据透视表和数据透视图向导－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步骤之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对话框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38148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6" name="未标题-30" descr=""/>
          <p:cNvPicPr/>
          <p:nvPr/>
        </p:nvPicPr>
        <p:blipFill>
          <a:blip r:embed="rId1"/>
          <a:stretch/>
        </p:blipFill>
        <p:spPr>
          <a:xfrm>
            <a:off x="1447920" y="2590920"/>
            <a:ext cx="6296040" cy="19890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2133720" y="4994280"/>
            <a:ext cx="489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02   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数据透视表和数据透视图向导－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步骤之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”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9096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0" name="未标题-54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6053040" cy="249084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2286000" y="5029200"/>
            <a:ext cx="504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03   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数据透视表和数据透视图向导－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步骤之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”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292428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3" name="未标题-33" descr=""/>
          <p:cNvPicPr/>
          <p:nvPr/>
        </p:nvPicPr>
        <p:blipFill>
          <a:blip r:embed="rId1"/>
          <a:stretch/>
        </p:blipFill>
        <p:spPr>
          <a:xfrm>
            <a:off x="1690560" y="2133720"/>
            <a:ext cx="5610240" cy="348588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2534040" y="1260360"/>
            <a:ext cx="32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04   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数据透视表”工具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14784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8" name="未标题-32" descr=""/>
          <p:cNvPicPr/>
          <p:nvPr/>
        </p:nvPicPr>
        <p:blipFill>
          <a:blip r:embed="rId1"/>
          <a:stretch/>
        </p:blipFill>
        <p:spPr>
          <a:xfrm>
            <a:off x="1878120" y="2362320"/>
            <a:ext cx="5234040" cy="302868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3038400" y="5562720"/>
            <a:ext cx="29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05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创建的数据透视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65292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2" name="未标题-57" descr=""/>
          <p:cNvPicPr/>
          <p:nvPr/>
        </p:nvPicPr>
        <p:blipFill>
          <a:blip r:embed="rId1"/>
          <a:stretch/>
        </p:blipFill>
        <p:spPr>
          <a:xfrm>
            <a:off x="1828800" y="2590920"/>
            <a:ext cx="4119480" cy="28810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6265440" y="2666880"/>
            <a:ext cx="1643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06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“数据透视表字段”对话框中设置汇总方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未标题-2" descr=""/>
          <p:cNvPicPr/>
          <p:nvPr/>
        </p:nvPicPr>
        <p:blipFill>
          <a:blip r:embed="rId1"/>
          <a:stretch/>
        </p:blipFill>
        <p:spPr>
          <a:xfrm>
            <a:off x="6172200" y="1600200"/>
            <a:ext cx="2133720" cy="152244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303372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6" name="未标题-34" descr=""/>
          <p:cNvPicPr/>
          <p:nvPr/>
        </p:nvPicPr>
        <p:blipFill>
          <a:blip r:embed="rId2"/>
          <a:stretch/>
        </p:blipFill>
        <p:spPr>
          <a:xfrm>
            <a:off x="457200" y="3352680"/>
            <a:ext cx="5286240" cy="252108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6089760" y="990720"/>
            <a:ext cx="21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4-107 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选择页字段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278720" y="2438280"/>
            <a:ext cx="34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08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用页字段筛选数据的结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94812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2" name="未标题-2" descr=""/>
          <p:cNvPicPr/>
          <p:nvPr/>
        </p:nvPicPr>
        <p:blipFill>
          <a:blip r:embed="rId1"/>
          <a:stretch/>
        </p:blipFill>
        <p:spPr>
          <a:xfrm>
            <a:off x="5791320" y="1828800"/>
            <a:ext cx="2895480" cy="218916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335772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4" name="未标题-1" descr=""/>
          <p:cNvPicPr/>
          <p:nvPr/>
        </p:nvPicPr>
        <p:blipFill>
          <a:blip r:embed="rId2"/>
          <a:stretch/>
        </p:blipFill>
        <p:spPr>
          <a:xfrm>
            <a:off x="533520" y="3352680"/>
            <a:ext cx="4876560" cy="242892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5999400" y="4343400"/>
            <a:ext cx="25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09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选择列字段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278720" y="2590920"/>
            <a:ext cx="34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10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用列字段筛选之后的数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7" name="未标题-1%20副本" descr=""/>
          <p:cNvPicPr/>
          <p:nvPr/>
        </p:nvPicPr>
        <p:blipFill>
          <a:blip r:embed="rId3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6.2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编辑数据透视表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2133720" y="2285640"/>
            <a:ext cx="59436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修改数据透视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添加和删除字段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设置数据透视表选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格式化数据透视表中的数据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数据透视表的复制和删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2.2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选择工作表、单元格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47560" y="21337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单个单元格的选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选择连续的多个单元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选择不连续的多个单元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选择局部连续总体不连续的单元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选定整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选定列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选定工作表的所有单元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未标题-1%20副本" descr=""/>
          <p:cNvPicPr/>
          <p:nvPr/>
        </p:nvPicPr>
        <p:blipFill>
          <a:blip r:embed="rId1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．修改数据透视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83860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2" name="未标题-2" descr=""/>
          <p:cNvPicPr/>
          <p:nvPr/>
        </p:nvPicPr>
        <p:blipFill>
          <a:blip r:embed="rId1"/>
          <a:stretch/>
        </p:blipFill>
        <p:spPr>
          <a:xfrm>
            <a:off x="1028880" y="2438280"/>
            <a:ext cx="6933960" cy="24004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2947680" y="5181480"/>
            <a:ext cx="30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11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行列互换后的透视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添加和删除字段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16692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6" name="未标题-3" descr=""/>
          <p:cNvPicPr/>
          <p:nvPr/>
        </p:nvPicPr>
        <p:blipFill>
          <a:blip r:embed="rId1"/>
          <a:stretch/>
        </p:blipFill>
        <p:spPr>
          <a:xfrm>
            <a:off x="1658880" y="2573280"/>
            <a:ext cx="5672160" cy="155736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/>
          <p:nvPr/>
        </p:nvSpPr>
        <p:spPr>
          <a:xfrm>
            <a:off x="3136320" y="4689360"/>
            <a:ext cx="32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12   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数据透视表”工具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设置数据透视表选项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3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0" name="未标题-2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3657600" cy="302724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816480" y="5611680"/>
            <a:ext cx="30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4-113   “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数据透视表选项”对话框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25764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3" name="未标题-12" descr=""/>
          <p:cNvPicPr/>
          <p:nvPr/>
        </p:nvPicPr>
        <p:blipFill>
          <a:blip r:embed="rId2"/>
          <a:stretch/>
        </p:blipFill>
        <p:spPr>
          <a:xfrm>
            <a:off x="4495680" y="2557440"/>
            <a:ext cx="4419720" cy="267480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5541120" y="5546880"/>
            <a:ext cx="261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4-114 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设置后的数据透视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格式化数据透视表中的数据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1766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7" name="未标题-70" descr=""/>
          <p:cNvPicPr/>
          <p:nvPr/>
        </p:nvPicPr>
        <p:blipFill>
          <a:blip r:embed="rId1"/>
          <a:stretch/>
        </p:blipFill>
        <p:spPr>
          <a:xfrm>
            <a:off x="2044800" y="2057400"/>
            <a:ext cx="4900680" cy="334476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2711520" y="556272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15   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数据透视表字段”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  <a:ea typeface="楷体_GB2312"/>
            </a:endParaRPr>
          </a:p>
        </p:txBody>
      </p:sp>
      <p:sp>
        <p:nvSpPr>
          <p:cNvPr id="660" name=""/>
          <p:cNvSpPr/>
          <p:nvPr/>
        </p:nvSpPr>
        <p:spPr>
          <a:xfrm>
            <a:off x="302904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1" name="未标题-68" descr=""/>
          <p:cNvPicPr/>
          <p:nvPr/>
        </p:nvPicPr>
        <p:blipFill>
          <a:blip r:embed="rId1"/>
          <a:stretch/>
        </p:blipFill>
        <p:spPr>
          <a:xfrm>
            <a:off x="2185920" y="2057400"/>
            <a:ext cx="4619520" cy="357984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6875640" y="2666880"/>
            <a:ext cx="12776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16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设置字段的格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  <a:ea typeface="楷体_GB2312"/>
            </a:endParaRPr>
          </a:p>
        </p:txBody>
      </p:sp>
      <p:sp>
        <p:nvSpPr>
          <p:cNvPr id="664" name=""/>
          <p:cNvSpPr/>
          <p:nvPr/>
        </p:nvSpPr>
        <p:spPr>
          <a:xfrm>
            <a:off x="306216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5" name="未标题-1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5776920" cy="258768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>
            <a:off x="3107520" y="5410080"/>
            <a:ext cx="35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17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设置了格式之后的透视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数据透视表的复制和删除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82896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9" name="未标题-71" descr=""/>
          <p:cNvPicPr/>
          <p:nvPr/>
        </p:nvPicPr>
        <p:blipFill>
          <a:blip r:embed="rId1"/>
          <a:stretch/>
        </p:blipFill>
        <p:spPr>
          <a:xfrm>
            <a:off x="2971800" y="2362320"/>
            <a:ext cx="2400480" cy="3200400"/>
          </a:xfrm>
          <a:prstGeom prst="rect">
            <a:avLst/>
          </a:prstGeom>
          <a:ln w="0">
            <a:noFill/>
          </a:ln>
        </p:spPr>
      </p:pic>
      <p:sp>
        <p:nvSpPr>
          <p:cNvPr id="670" name=""/>
          <p:cNvSpPr/>
          <p:nvPr/>
        </p:nvSpPr>
        <p:spPr>
          <a:xfrm>
            <a:off x="5356440" y="2590920"/>
            <a:ext cx="1277640" cy="29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18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移动或复制工作表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1" name="未标题-1%20副本" descr=""/>
          <p:cNvPicPr/>
          <p:nvPr/>
        </p:nvPicPr>
        <p:blipFill>
          <a:blip r:embed="rId2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6.3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数据透视表的操作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更新数据透视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对数据透视表排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改变数据透视表的汇总方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显示和隐藏明细数据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从另一数据透视表中建立数据透视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使用数据透视表绘制动态图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4" name="未标题-1%20副本" descr=""/>
          <p:cNvPicPr/>
          <p:nvPr/>
        </p:nvPicPr>
        <p:blipFill>
          <a:blip r:embed="rId1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7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页面设置和打印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285640" y="213372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7.1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设置打印区域和分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7.2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页面的设置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7.3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打印预览和打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7" name="未标题-3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188120" y="6477120"/>
            <a:ext cx="1955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7.1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设置打印区域和分页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94804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0" name="未标题-2" descr=""/>
          <p:cNvPicPr/>
          <p:nvPr/>
        </p:nvPicPr>
        <p:blipFill>
          <a:blip r:embed="rId1"/>
          <a:stretch/>
        </p:blipFill>
        <p:spPr>
          <a:xfrm>
            <a:off x="2019240" y="2743200"/>
            <a:ext cx="4953240" cy="25560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>
            <a:off x="3221280" y="5486400"/>
            <a:ext cx="25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30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设置打印区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设置打印区域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2.3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输入数据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文本类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数值类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逻辑类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只有两个值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True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Fals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出错值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单元格中显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#DIV/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！出错值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分页与分页预览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59092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6" name="未标题-2" descr=""/>
          <p:cNvPicPr/>
          <p:nvPr/>
        </p:nvPicPr>
        <p:blipFill>
          <a:blip r:embed="rId1"/>
          <a:stretch/>
        </p:blipFill>
        <p:spPr>
          <a:xfrm>
            <a:off x="1676520" y="2743200"/>
            <a:ext cx="4800600" cy="266544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2556000" y="556272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31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插入水平分页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83356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0" name="未标题-2" descr=""/>
          <p:cNvPicPr/>
          <p:nvPr/>
        </p:nvPicPr>
        <p:blipFill>
          <a:blip r:embed="rId1"/>
          <a:stretch/>
        </p:blipFill>
        <p:spPr>
          <a:xfrm>
            <a:off x="1911240" y="2057400"/>
            <a:ext cx="5167440" cy="318600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2722680" y="5410080"/>
            <a:ext cx="25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32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分页预览视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2" name="未标题-1%20副本" descr=""/>
          <p:cNvPicPr/>
          <p:nvPr/>
        </p:nvPicPr>
        <p:blipFill>
          <a:blip r:embed="rId2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7.2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页面的设置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设置页面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8124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6" name="未标题-2" descr=""/>
          <p:cNvPicPr/>
          <p:nvPr/>
        </p:nvPicPr>
        <p:blipFill>
          <a:blip r:embed="rId1"/>
          <a:stretch/>
        </p:blipFill>
        <p:spPr>
          <a:xfrm>
            <a:off x="2301840" y="2590920"/>
            <a:ext cx="4386240" cy="320832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7089120" y="2819520"/>
            <a:ext cx="91188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33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页面设置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设置页边距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276720" y="24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1" name="未标题-2" descr=""/>
          <p:cNvPicPr/>
          <p:nvPr/>
        </p:nvPicPr>
        <p:blipFill>
          <a:blip r:embed="rId1"/>
          <a:stretch/>
        </p:blipFill>
        <p:spPr>
          <a:xfrm>
            <a:off x="2133720" y="2971800"/>
            <a:ext cx="3581280" cy="2593800"/>
          </a:xfrm>
          <a:prstGeom prst="rect">
            <a:avLst/>
          </a:prstGeom>
          <a:ln w="0">
            <a:noFill/>
          </a:ln>
        </p:spPr>
      </p:pic>
      <p:sp>
        <p:nvSpPr>
          <p:cNvPr id="702" name=""/>
          <p:cNvSpPr/>
          <p:nvPr/>
        </p:nvSpPr>
        <p:spPr>
          <a:xfrm>
            <a:off x="6098400" y="2895480"/>
            <a:ext cx="91188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34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页边距设置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设置页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页脚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29580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5" name="未标题-2" descr=""/>
          <p:cNvPicPr/>
          <p:nvPr/>
        </p:nvPicPr>
        <p:blipFill>
          <a:blip r:embed="rId1"/>
          <a:stretch/>
        </p:blipFill>
        <p:spPr>
          <a:xfrm>
            <a:off x="2209680" y="2419200"/>
            <a:ext cx="3962520" cy="289728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2605680" y="5562720"/>
            <a:ext cx="33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35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页眉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页脚设置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  <a:ea typeface="楷体_GB2312"/>
            </a:endParaRPr>
          </a:p>
        </p:txBody>
      </p:sp>
      <p:sp>
        <p:nvSpPr>
          <p:cNvPr id="708" name=""/>
          <p:cNvSpPr/>
          <p:nvPr/>
        </p:nvSpPr>
        <p:spPr>
          <a:xfrm>
            <a:off x="270972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9" name="未标题-2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6248520" cy="236520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/>
          <p:nvPr/>
        </p:nvSpPr>
        <p:spPr>
          <a:xfrm>
            <a:off x="3039840" y="5029200"/>
            <a:ext cx="29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36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自定义页眉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  <a:ea typeface="楷体_GB2312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工作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24324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4" name="未标题-2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4038840" cy="292392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6860520" y="3048120"/>
            <a:ext cx="911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37   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工作表”标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6" name="未标题-1%20副本" descr=""/>
          <p:cNvPicPr/>
          <p:nvPr/>
        </p:nvPicPr>
        <p:blipFill>
          <a:blip r:embed="rId2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7.3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打印预览和打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打印预览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54304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0" name="未标题-1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4390920" cy="329868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875640" y="3352680"/>
            <a:ext cx="127764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38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打印预览界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打印工作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25764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5" name="未标题-2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4209840" cy="291312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>
            <a:off x="6708240" y="3048120"/>
            <a:ext cx="91188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39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打印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7" name="未标题-1%20副本" descr=""/>
          <p:cNvPicPr/>
          <p:nvPr/>
        </p:nvPicPr>
        <p:blipFill>
          <a:blip r:embed="rId2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未标题-3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188120" y="6477120"/>
            <a:ext cx="1955880" cy="380880"/>
          </a:xfrm>
          <a:prstGeom prst="rect">
            <a:avLst/>
          </a:prstGeom>
          <a:ln w="0">
            <a:noFill/>
          </a:ln>
        </p:spPr>
      </p:pic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Maiandra GD"/>
              </a:rPr>
              <a:t>Thank you very much!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0" name="2008" descr=""/>
          <p:cNvPicPr/>
          <p:nvPr/>
        </p:nvPicPr>
        <p:blipFill>
          <a:blip r:embed="rId2"/>
          <a:stretch/>
        </p:blipFill>
        <p:spPr>
          <a:xfrm>
            <a:off x="3581280" y="2438280"/>
            <a:ext cx="3276720" cy="291312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/>
          <p:nvPr/>
        </p:nvSpPr>
        <p:spPr>
          <a:xfrm>
            <a:off x="659160" y="2133720"/>
            <a:ext cx="1642680" cy="33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琥珀"/>
              </a:rPr>
              <a:t>本章到此结束，谢谢您的光临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2" name="未标题-6" descr=""/>
          <p:cNvPicPr/>
          <p:nvPr/>
        </p:nvPicPr>
        <p:blipFill>
          <a:blip r:embed="rId3"/>
          <a:stretch/>
        </p:blipFill>
        <p:spPr>
          <a:xfrm>
            <a:off x="4800600" y="6384960"/>
            <a:ext cx="18288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33360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book1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4724280" cy="41590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908080" y="5410080"/>
            <a:ext cx="27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7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设置日期格式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未标题-1%20副本" descr=""/>
          <p:cNvPicPr/>
          <p:nvPr/>
        </p:nvPicPr>
        <p:blipFill>
          <a:blip r:embed="rId2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2.4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数据自动输入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14600" y="22096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自动填充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用户自定义序列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产生一个序列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自动填充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9096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book15" descr=""/>
          <p:cNvPicPr/>
          <p:nvPr/>
        </p:nvPicPr>
        <p:blipFill>
          <a:blip r:embed="rId1"/>
          <a:stretch/>
        </p:blipFill>
        <p:spPr>
          <a:xfrm>
            <a:off x="1811160" y="2438280"/>
            <a:ext cx="5519880" cy="27338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456360" y="5486400"/>
            <a:ext cx="22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9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自动填充效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6712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book16" descr=""/>
          <p:cNvPicPr/>
          <p:nvPr/>
        </p:nvPicPr>
        <p:blipFill>
          <a:blip r:embed="rId1"/>
          <a:stretch/>
        </p:blipFill>
        <p:spPr>
          <a:xfrm>
            <a:off x="1752480" y="2392200"/>
            <a:ext cx="6177240" cy="2071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064320" y="4952880"/>
            <a:ext cx="38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0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初值选两个单元格时的自动填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．用户自定义序列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9580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book17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3943080" cy="2957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922480" y="5410080"/>
            <a:ext cx="27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1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自定义序列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4.1    Excel 2000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中文版的启动与退出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4.1.1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Excel 2000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3" action="ppaction://hlinksldjump"/>
              </a:rPr>
              <a:t>的启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4.1.2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5" action="ppaction://hlinksldjump"/>
              </a:rPr>
              <a:t>初识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Excel 2000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7" action="ppaction://hlinksldjump"/>
              </a:rPr>
              <a:t>的窗口界面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4.1.3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Excel 2000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10" action="ppaction://hlinksldjump"/>
              </a:rPr>
              <a:t>的退出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4.1.4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12" action="ppaction://hlinksldjump"/>
              </a:rPr>
              <a:t>Excel 2000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13" action="ppaction://hlinksldjump"/>
              </a:rPr>
              <a:t>中文版新功能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未标题-3" descr="">
            <a:hlinkClick r:id="" action="ppaction://hlinkshowjump?jump=firstslide"/>
          </p:cNvPr>
          <p:cNvPicPr/>
          <p:nvPr/>
        </p:nvPicPr>
        <p:blipFill>
          <a:blip r:embed="rId14"/>
          <a:stretch/>
        </p:blipFill>
        <p:spPr>
          <a:xfrm>
            <a:off x="7010280" y="6400800"/>
            <a:ext cx="19558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产生一个序列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2916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book35" descr=""/>
          <p:cNvPicPr/>
          <p:nvPr/>
        </p:nvPicPr>
        <p:blipFill>
          <a:blip r:embed="rId1"/>
          <a:stretch/>
        </p:blipFill>
        <p:spPr>
          <a:xfrm>
            <a:off x="2233440" y="2286000"/>
            <a:ext cx="4677120" cy="27399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465720" y="533412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2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序列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未标题-1%20副本" descr=""/>
          <p:cNvPicPr/>
          <p:nvPr/>
        </p:nvPicPr>
        <p:blipFill>
          <a:blip r:embed="rId2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2.5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公式与函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971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使用公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使用函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使用公式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866600" y="21337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公式中的运算符有以下四类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算术运算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比较运算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文本运算符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引用运算符（：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42424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book18" descr=""/>
          <p:cNvPicPr/>
          <p:nvPr/>
        </p:nvPicPr>
        <p:blipFill>
          <a:blip r:embed="rId1"/>
          <a:stretch/>
        </p:blipFill>
        <p:spPr>
          <a:xfrm>
            <a:off x="1211400" y="2065320"/>
            <a:ext cx="6719760" cy="2727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116520" y="514656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3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输入公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69064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BOOK19" descr=""/>
          <p:cNvPicPr/>
          <p:nvPr/>
        </p:nvPicPr>
        <p:blipFill>
          <a:blip r:embed="rId1"/>
          <a:stretch/>
        </p:blipFill>
        <p:spPr>
          <a:xfrm>
            <a:off x="1535040" y="2438280"/>
            <a:ext cx="6072120" cy="2644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69160" y="529920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4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复制公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使用函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819520" y="2438280"/>
            <a:ext cx="4114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函数的输入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自动求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自动计算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函数复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函数的输入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函数的输入有两种方法：一为直接输入，一为粘贴函数法（即使用函数向导）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6712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book22" descr=""/>
          <p:cNvPicPr/>
          <p:nvPr/>
        </p:nvPicPr>
        <p:blipFill>
          <a:blip r:embed="rId1"/>
          <a:stretch/>
        </p:blipFill>
        <p:spPr>
          <a:xfrm>
            <a:off x="533520" y="3200400"/>
            <a:ext cx="3886200" cy="27338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53844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book22" descr=""/>
          <p:cNvPicPr/>
          <p:nvPr/>
        </p:nvPicPr>
        <p:blipFill>
          <a:blip r:embed="rId2"/>
          <a:stretch/>
        </p:blipFill>
        <p:spPr>
          <a:xfrm>
            <a:off x="5029200" y="3048120"/>
            <a:ext cx="3505320" cy="24224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516680" y="6060960"/>
            <a:ext cx="21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5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输入公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33920" y="560376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6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粘贴函数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76696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book23" descr=""/>
          <p:cNvPicPr/>
          <p:nvPr/>
        </p:nvPicPr>
        <p:blipFill>
          <a:blip r:embed="rId1"/>
          <a:stretch/>
        </p:blipFill>
        <p:spPr>
          <a:xfrm>
            <a:off x="1943280" y="2243160"/>
            <a:ext cx="5257800" cy="23716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378240" y="499428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7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求和函数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85264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book24" descr=""/>
          <p:cNvPicPr/>
          <p:nvPr/>
        </p:nvPicPr>
        <p:blipFill>
          <a:blip r:embed="rId1"/>
          <a:stretch/>
        </p:blipFill>
        <p:spPr>
          <a:xfrm>
            <a:off x="1425600" y="2008080"/>
            <a:ext cx="6291360" cy="28400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825640" y="518148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8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从函数列表中选择函数粘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自动求和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5272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book26" descr=""/>
          <p:cNvPicPr/>
          <p:nvPr/>
        </p:nvPicPr>
        <p:blipFill>
          <a:blip r:embed="rId1"/>
          <a:stretch/>
        </p:blipFill>
        <p:spPr>
          <a:xfrm>
            <a:off x="1933560" y="2171880"/>
            <a:ext cx="5276880" cy="25146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281040" y="502920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9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自动求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1.1   Excel 2000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启动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单击“开始”按钮，在“程序”选项的子菜单中单击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Excel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选项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单击已存在的电子表格文件启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l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，同时也打开了该文件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如果桌面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l 2000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快捷方式图标，双击快捷图标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未标题-1%20副本" descr=""/>
          <p:cNvPicPr/>
          <p:nvPr/>
        </p:nvPicPr>
        <p:blipFill>
          <a:blip r:embed="rId1"/>
          <a:stretch/>
        </p:blipFill>
        <p:spPr>
          <a:xfrm>
            <a:off x="6781680" y="640548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自动计算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0520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book27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5248440" cy="2233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477120" y="3581280"/>
            <a:ext cx="1600200" cy="457200"/>
          </a:xfrm>
          <a:solidFill>
            <a:srgbClr val="cc99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计算结果显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11960" y="2708280"/>
            <a:ext cx="1741320" cy="415800"/>
          </a:xfrm>
          <a:solidFill>
            <a:srgbClr val="cc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功能菜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27880" y="2117880"/>
            <a:ext cx="1701720" cy="396720"/>
          </a:xfr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选择的区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70400" y="533412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20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自动计算功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未标题-1%20副本" descr=""/>
          <p:cNvPicPr/>
          <p:nvPr/>
        </p:nvPicPr>
        <p:blipFill>
          <a:blip r:embed="rId2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2.6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元格引用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324160" y="20574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相对引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绝对引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混合引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三维地址引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引用名字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85768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book28" descr=""/>
          <p:cNvPicPr/>
          <p:nvPr/>
        </p:nvPicPr>
        <p:blipFill>
          <a:blip r:embed="rId1"/>
          <a:stretch/>
        </p:blipFill>
        <p:spPr>
          <a:xfrm>
            <a:off x="1733400" y="2049480"/>
            <a:ext cx="5677200" cy="2759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926800" y="510552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21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相对引用和绝对引用示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00024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BOOK30" descr=""/>
          <p:cNvPicPr/>
          <p:nvPr/>
        </p:nvPicPr>
        <p:blipFill>
          <a:blip r:embed="rId1"/>
          <a:stretch/>
        </p:blipFill>
        <p:spPr>
          <a:xfrm>
            <a:off x="1523880" y="2023920"/>
            <a:ext cx="5486400" cy="2810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51280" y="533412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22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名字引用示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91520" y="3067200"/>
            <a:ext cx="1328760" cy="285480"/>
          </a:xfrm>
          <a:solidFill>
            <a:srgbClr val="ff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名字引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43800" y="4038480"/>
            <a:ext cx="1066680" cy="381240"/>
          </a:xfrm>
          <a:solidFill>
            <a:srgbClr val="ff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地址引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3124080"/>
            <a:ext cx="2971800" cy="6858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19520" y="3886200"/>
            <a:ext cx="2819160" cy="6858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未标题-1%20副本" descr=""/>
          <p:cNvPicPr/>
          <p:nvPr/>
        </p:nvPicPr>
        <p:blipFill>
          <a:blip r:embed="rId2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2.7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数据编辑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752480" y="205740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数据修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数据删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数据复制和移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单元格、行、列的插入和删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查找与替换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给单元格加批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数据修改与数据删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Excel 2000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中，修改数据有两种方法：一是在编辑栏中修改，二是直接在单元格中修改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Excel 2000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中数据删除有两个概念：数据清除和数据删除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数据复制和移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数据复制、移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选择性粘贴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选择性粘贴操作步骤为：先将数据复制到剪贴板，再选择待粘贴目标区域中的第一个单元格，选择“编辑”菜单的“选择性粘贴”命令，出现如图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4-25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所示的对话框。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单元格、行、列的插入和删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插入单元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插入整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插入列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286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查找与替换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0532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book37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3809880" cy="18716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30516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book36" descr=""/>
          <p:cNvPicPr/>
          <p:nvPr/>
        </p:nvPicPr>
        <p:blipFill>
          <a:blip r:embed="rId2"/>
          <a:stretch/>
        </p:blipFill>
        <p:spPr>
          <a:xfrm>
            <a:off x="4800600" y="2819520"/>
            <a:ext cx="4114800" cy="16858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249920" y="4952880"/>
            <a:ext cx="24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27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查找对话框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23360" y="4952880"/>
            <a:ext cx="23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28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替换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给单元格加批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4324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book38" descr=""/>
          <p:cNvPicPr/>
          <p:nvPr/>
        </p:nvPicPr>
        <p:blipFill>
          <a:blip r:embed="rId1"/>
          <a:stretch/>
        </p:blipFill>
        <p:spPr>
          <a:xfrm>
            <a:off x="1676520" y="2205000"/>
            <a:ext cx="5410080" cy="2674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959560" y="533412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29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批注对话框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未标题-1%20副本" descr=""/>
          <p:cNvPicPr/>
          <p:nvPr/>
        </p:nvPicPr>
        <p:blipFill>
          <a:blip r:embed="rId2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4.1.2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初识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Excel 2000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的窗口界面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670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book2" descr=""/>
          <p:cNvPicPr/>
          <p:nvPr/>
        </p:nvPicPr>
        <p:blipFill>
          <a:blip r:embed="rId1"/>
          <a:stretch/>
        </p:blipFill>
        <p:spPr>
          <a:xfrm>
            <a:off x="1676520" y="2019240"/>
            <a:ext cx="4190760" cy="3465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47120" y="5715000"/>
            <a:ext cx="276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4-2   Excel 200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用户界面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3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工作表的编辑和格式化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0484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4.3.1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2" action="ppaction://hlinksldjump"/>
              </a:rPr>
              <a:t>工作表的删除、插入和重命名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4.3.2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4" action="ppaction://hlinksldjump"/>
              </a:rPr>
              <a:t>工作表的复制与移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4.3.3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6" action="ppaction://hlinksldjump"/>
              </a:rPr>
              <a:t>隐藏和取消隐藏工作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4.3.4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8" action="ppaction://hlinksldjump"/>
              </a:rPr>
              <a:t>工作表窗口的拆分与冻结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4.3.5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10" action="ppaction://hlinksldjump"/>
              </a:rPr>
              <a:t>工作表格式化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未标题-3" descr="">
            <a:hlinkClick r:id="" action="ppaction://hlinkshowjump?jump=firstslide"/>
          </p:cNvPr>
          <p:cNvPicPr/>
          <p:nvPr/>
        </p:nvPicPr>
        <p:blipFill>
          <a:blip r:embed="rId11"/>
          <a:stretch/>
        </p:blipFill>
        <p:spPr>
          <a:xfrm>
            <a:off x="7188120" y="6477120"/>
            <a:ext cx="1955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3.1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工作表的删除、插入和重命名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90560" y="213372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选取工作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插入工作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删除工作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重命名工作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选取工作表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2436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book40" descr=""/>
          <p:cNvPicPr/>
          <p:nvPr/>
        </p:nvPicPr>
        <p:blipFill>
          <a:blip r:embed="rId1"/>
          <a:stretch/>
        </p:blipFill>
        <p:spPr>
          <a:xfrm>
            <a:off x="1701720" y="2286000"/>
            <a:ext cx="5738760" cy="27543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930040" y="533412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-31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工作组示意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23388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book41" descr=""/>
          <p:cNvPicPr/>
          <p:nvPr/>
        </p:nvPicPr>
        <p:blipFill>
          <a:blip r:embed="rId1"/>
          <a:stretch/>
        </p:blipFill>
        <p:spPr>
          <a:xfrm>
            <a:off x="2149560" y="2209680"/>
            <a:ext cx="4843440" cy="28274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539080" y="5334120"/>
            <a:ext cx="40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32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右击标签滚动条显示工作表列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．重命名工作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8156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未标题-1" descr=""/>
          <p:cNvPicPr/>
          <p:nvPr/>
        </p:nvPicPr>
        <p:blipFill>
          <a:blip r:embed="rId1"/>
          <a:stretch/>
        </p:blipFill>
        <p:spPr>
          <a:xfrm>
            <a:off x="3124080" y="2514600"/>
            <a:ext cx="3757680" cy="23464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914400" y="5410080"/>
            <a:ext cx="1295280" cy="79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53656" y="-16439"/>
                </a:moveTo>
                <a:lnTo>
                  <a:pt x="22871" y="3123"/>
                </a:lnTo>
              </a:path>
            </a:pathLst>
          </a:custGeom>
          <a:solidFill>
            <a:srgbClr val="ccec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新的工作表标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764520" y="5257800"/>
            <a:ext cx="24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34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工作表命名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未标题-1%20副本" descr=""/>
          <p:cNvPicPr/>
          <p:nvPr/>
        </p:nvPicPr>
        <p:blipFill>
          <a:blip r:embed="rId2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3.2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工作表的复制与移动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99840" y="213372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使用菜单命令复制或移动工作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使用鼠标复制或移动工作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85776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book45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2833920" cy="33624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808960" y="2514600"/>
            <a:ext cx="12776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35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移动或复制工作表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未标题-1%20副本" descr=""/>
          <p:cNvPicPr/>
          <p:nvPr/>
        </p:nvPicPr>
        <p:blipFill>
          <a:blip r:embed="rId2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3.3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隐藏和取消隐藏工作表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隐藏工作表的方法如下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选择要隐藏的工作表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单击“格式”菜单中“工作表”命令，在弹出的级联菜单中单击“隐藏”命令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取消隐藏工作表的方法如下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单击“格式”菜单中的“工作表”命令，在弹出的子菜单中单击“取消隐藏”命令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在弹出的“取消隐藏”对话框中选择要取消隐藏的工作表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未标题-1%20副本" descr=""/>
          <p:cNvPicPr/>
          <p:nvPr/>
        </p:nvPicPr>
        <p:blipFill>
          <a:blip r:embed="rId1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3.4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工作表窗口的拆分与冻结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工作表窗口的拆分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拆分可分为三种：水平拆分、垂直拆分、水平和垂直同时拆分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工作表窗口的冻结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窗口冻结操作方法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选择冻结位置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选择“窗口”菜单中的“冻结窗口”命令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36232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book46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790960" cy="30574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099960" y="541008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36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工作表窗口拆分示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用户界面的组成及功能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标题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菜单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常用工具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格式工具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56400" y="2590920"/>
            <a:ext cx="2079000" cy="30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编辑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工作表格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工作表标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滚动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拆分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56212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5" name="book44" descr=""/>
          <p:cNvPicPr/>
          <p:nvPr/>
        </p:nvPicPr>
        <p:blipFill>
          <a:blip r:embed="rId1"/>
          <a:stretch/>
        </p:blipFill>
        <p:spPr>
          <a:xfrm>
            <a:off x="1585800" y="2057400"/>
            <a:ext cx="5972400" cy="3240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373560" y="548640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37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窗口冻结示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未标题-1%20副本" descr=""/>
          <p:cNvPicPr/>
          <p:nvPr/>
        </p:nvPicPr>
        <p:blipFill>
          <a:blip r:embed="rId2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3.5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工作表格式化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09320" y="213372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自定义格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自动格式化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格式的复制、删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设置工作表背景图案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自定义格式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设置数字格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设置对齐格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设置字体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设置边框线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设置单元格或单元格区域图案和颜色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设置列宽、行高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条件格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07180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book47" descr=""/>
          <p:cNvPicPr/>
          <p:nvPr/>
        </p:nvPicPr>
        <p:blipFill>
          <a:blip r:embed="rId1"/>
          <a:stretch/>
        </p:blipFill>
        <p:spPr>
          <a:xfrm>
            <a:off x="212760" y="3170160"/>
            <a:ext cx="8718480" cy="5637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061000" y="571500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38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格式工具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3520" y="114300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设置字体格式示例（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请您点击鼠标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23880" y="4648320"/>
            <a:ext cx="1676520" cy="380880"/>
          </a:xfrm>
          <a:solidFill>
            <a:srgbClr val="00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设置字体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00600" y="4800600"/>
            <a:ext cx="762120" cy="685800"/>
          </a:xfrm>
          <a:solidFill>
            <a:srgbClr val="00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字体大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90720" y="1981080"/>
            <a:ext cx="892080" cy="381240"/>
          </a:xfrm>
          <a:solidFill>
            <a:srgbClr val="00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粗体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05320" y="1981080"/>
            <a:ext cx="876240" cy="457200"/>
          </a:xfrm>
          <a:solidFill>
            <a:srgbClr val="00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cc3300"/>
                </a:solidFill>
                <a:latin typeface="Times New Roman"/>
              </a:rPr>
              <a:t>斜体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80080" y="1676520"/>
            <a:ext cx="1420920" cy="457200"/>
          </a:xfrm>
          <a:solidFill>
            <a:srgbClr val="00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下画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4800600"/>
            <a:ext cx="1600200" cy="53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7707" y="-50400"/>
                </a:moveTo>
                <a:lnTo>
                  <a:pt x="-1029" y="4629"/>
                </a:lnTo>
              </a:path>
            </a:pathLst>
          </a:custGeom>
          <a:solidFill>
            <a:srgbClr val="00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对齐格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40056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未标题-2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733920" cy="32637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40992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未标题-2" descr=""/>
          <p:cNvPicPr/>
          <p:nvPr/>
        </p:nvPicPr>
        <p:blipFill>
          <a:blip r:embed="rId2"/>
          <a:stretch/>
        </p:blipFill>
        <p:spPr>
          <a:xfrm>
            <a:off x="5029200" y="2149560"/>
            <a:ext cx="3505320" cy="31320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173600" y="5638680"/>
            <a:ext cx="24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39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格式对话框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89640" y="548640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0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对齐方式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13280" y="114300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设置数字格式和对齐格式示例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23388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未标题-1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4767480" cy="31384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09480" y="2852640"/>
            <a:ext cx="1392480" cy="5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54456" y="26469"/>
                </a:moveTo>
                <a:lnTo>
                  <a:pt x="22782" y="4937"/>
                </a:lnTo>
              </a:path>
            </a:pathLst>
          </a:cu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自动换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010280" y="1600200"/>
            <a:ext cx="167652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500" y="44050"/>
                </a:moveTo>
                <a:lnTo>
                  <a:pt x="-982" y="3600"/>
                </a:lnTo>
              </a:path>
            </a:pathLst>
          </a:cu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水平居中与合并单元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20120" y="4495680"/>
            <a:ext cx="129528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5900" y="-4425"/>
                </a:moveTo>
                <a:lnTo>
                  <a:pt x="-1271" y="5400"/>
                </a:lnTo>
              </a:path>
            </a:pathLst>
          </a:cu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旋转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45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4114800"/>
            <a:ext cx="16002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63750" y="-17606"/>
                </a:moveTo>
                <a:lnTo>
                  <a:pt x="22629" y="4000"/>
                </a:lnTo>
              </a:path>
            </a:pathLst>
          </a:cu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缩小字体填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13240" y="5638680"/>
            <a:ext cx="32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1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对齐格式示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58632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未标题-1" descr=""/>
          <p:cNvPicPr/>
          <p:nvPr/>
        </p:nvPicPr>
        <p:blipFill>
          <a:blip r:embed="rId1"/>
          <a:stretch/>
        </p:blipFill>
        <p:spPr>
          <a:xfrm>
            <a:off x="2668680" y="2133720"/>
            <a:ext cx="3805200" cy="31795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3465720" y="556272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2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字体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10666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设置字体格式示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44340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3" name="未标题-1" descr=""/>
          <p:cNvPicPr/>
          <p:nvPr/>
        </p:nvPicPr>
        <p:blipFill>
          <a:blip r:embed="rId1"/>
          <a:stretch/>
        </p:blipFill>
        <p:spPr>
          <a:xfrm>
            <a:off x="2514600" y="2362320"/>
            <a:ext cx="3505320" cy="30906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57200" y="2070000"/>
            <a:ext cx="178452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5225" y="52611"/>
                </a:moveTo>
                <a:lnTo>
                  <a:pt x="22522" y="5554"/>
                </a:lnTo>
              </a:path>
            </a:pathLst>
          </a:cu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清除所有框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4920" y="2971800"/>
            <a:ext cx="133020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50391" y="55260"/>
                </a:moveTo>
                <a:lnTo>
                  <a:pt x="22837" y="6480"/>
                </a:lnTo>
              </a:path>
            </a:pathLst>
          </a:custGeom>
          <a:solidFill>
            <a:srgbClr val="ffcc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预览效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96840" y="3594240"/>
            <a:ext cx="2798280" cy="901440"/>
            <a:chOff x="96840" y="3594240"/>
            <a:chExt cx="2798280" cy="901440"/>
          </a:xfrm>
        </p:grpSpPr>
        <p:sp>
          <p:nvSpPr>
            <p:cNvPr id="307" name=""/>
            <p:cNvSpPr/>
            <p:nvPr/>
          </p:nvSpPr>
          <p:spPr>
            <a:xfrm>
              <a:off x="96840" y="3594240"/>
              <a:ext cx="1127160" cy="44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81472" y="48600"/>
                  </a:moveTo>
                  <a:lnTo>
                    <a:pt x="23060" y="5554"/>
                  </a:lnTo>
                </a:path>
              </a:pathLst>
            </a:cu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Times New Roman"/>
                </a:rPr>
                <a:t>画对角线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>
              <a:off x="1493640" y="3857760"/>
              <a:ext cx="1401480" cy="637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04920" y="5197320"/>
            <a:ext cx="1295280" cy="74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9474" y="-17464"/>
                </a:moveTo>
                <a:lnTo>
                  <a:pt x="22871" y="3309"/>
                </a:lnTo>
              </a:path>
            </a:pathLst>
          </a:custGeom>
          <a:solidFill>
            <a:srgbClr val="cc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清除或添加左边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0" y="4572000"/>
            <a:ext cx="144792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7479" y="-3431"/>
                </a:moveTo>
                <a:lnTo>
                  <a:pt x="-1137" y="4000"/>
                </a:lnTo>
              </a:path>
            </a:pathLst>
          </a:custGeom>
          <a:solidFill>
            <a:srgbClr val="99cc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选择边框线的颜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553080" y="3386160"/>
            <a:ext cx="1828800" cy="728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163" y="3388"/>
                </a:moveTo>
                <a:lnTo>
                  <a:pt x="-900" y="3388"/>
                </a:lnTo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选择边框线的线型和粗细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10280" y="2057400"/>
            <a:ext cx="137160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0800" y="31320"/>
                </a:moveTo>
                <a:lnTo>
                  <a:pt x="-1200" y="3240"/>
                </a:lnTo>
              </a:path>
            </a:pathLst>
          </a:custGeom>
          <a:solidFill>
            <a:srgbClr val="8000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所选区域加外框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29200" y="1143000"/>
            <a:ext cx="1828800" cy="53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531" y="79714"/>
                </a:moveTo>
                <a:lnTo>
                  <a:pt x="-900" y="4629"/>
                </a:lnTo>
              </a:path>
            </a:pathLst>
          </a:custGeom>
          <a:solidFill>
            <a:srgbClr val="000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内部加表格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13280" y="563868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3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边框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492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设置边框线示例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44340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7" name="未标题-2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3719520" cy="32655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2701800" y="548640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5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设置图案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56920" y="121932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设置单元格或单元格区域图案和颜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3962520" cy="2367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0" y="28288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4572000" y="2666880"/>
            <a:ext cx="3962520" cy="24368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4017960" y="5299200"/>
            <a:ext cx="14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7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格式菜单中行高、列宽命令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352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设置列宽、行高示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2416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book4" descr=""/>
          <p:cNvPicPr/>
          <p:nvPr/>
        </p:nvPicPr>
        <p:blipFill>
          <a:blip r:embed="rId1"/>
          <a:stretch/>
        </p:blipFill>
        <p:spPr>
          <a:xfrm>
            <a:off x="1611360" y="914400"/>
            <a:ext cx="5919840" cy="21542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712240" y="3429000"/>
            <a:ext cx="37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3   Excel 20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中文版编辑栏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0520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book5" descr=""/>
          <p:cNvPicPr/>
          <p:nvPr/>
        </p:nvPicPr>
        <p:blipFill>
          <a:blip r:embed="rId2"/>
          <a:stretch/>
        </p:blipFill>
        <p:spPr>
          <a:xfrm>
            <a:off x="1066680" y="4572000"/>
            <a:ext cx="7696440" cy="792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542040" y="5562720"/>
            <a:ext cx="20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工作表标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48624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未标题-1" descr=""/>
          <p:cNvPicPr/>
          <p:nvPr/>
        </p:nvPicPr>
        <p:blipFill>
          <a:blip r:embed="rId1"/>
          <a:stretch/>
        </p:blipFill>
        <p:spPr>
          <a:xfrm>
            <a:off x="1676520" y="2027160"/>
            <a:ext cx="5343480" cy="30924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3387240" y="537516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8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条件格式示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条件格式示例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92896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1" name="未标题-2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7510320" cy="21114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241800" y="1371600"/>
            <a:ext cx="133020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846" y="105617"/>
                </a:moveTo>
                <a:lnTo>
                  <a:pt x="-1237" y="5535"/>
                </a:lnTo>
              </a:path>
            </a:pathLst>
          </a:custGeom>
          <a:solidFill>
            <a:srgbClr val="cc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条件运算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562720" y="1752480"/>
            <a:ext cx="1218960" cy="22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953" y="150300"/>
                </a:moveTo>
                <a:lnTo>
                  <a:pt x="-1350" y="10800"/>
                </a:lnTo>
              </a:path>
            </a:pathLst>
          </a:custGeom>
          <a:solidFill>
            <a:srgbClr val="cc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条件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238880" y="1143000"/>
            <a:ext cx="1676520" cy="63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741" y="91827"/>
                </a:moveTo>
                <a:lnTo>
                  <a:pt x="-982" y="3908"/>
                </a:lnTo>
              </a:path>
            </a:pathLst>
          </a:custGeom>
          <a:solidFill>
            <a:srgbClr val="cc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单击打开格式对话框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219320" y="5105520"/>
            <a:ext cx="153324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4480" y="-35280"/>
                </a:moveTo>
                <a:lnTo>
                  <a:pt x="22673" y="6480"/>
                </a:lnTo>
              </a:path>
            </a:pathLst>
          </a:custGeom>
          <a:solidFill>
            <a:srgbClr val="cc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添加条件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971800" y="5638680"/>
            <a:ext cx="1600200" cy="53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029" y="-48021"/>
                </a:moveTo>
                <a:lnTo>
                  <a:pt x="22629" y="4629"/>
                </a:lnTo>
              </a:path>
            </a:pathLst>
          </a:custGeom>
          <a:solidFill>
            <a:srgbClr val="cc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删除条件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19920" y="5334120"/>
            <a:ext cx="175248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61" y="-82710"/>
                </a:moveTo>
                <a:lnTo>
                  <a:pt x="-939" y="6480"/>
                </a:lnTo>
              </a:path>
            </a:pathLst>
          </a:custGeom>
          <a:solidFill>
            <a:srgbClr val="cc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预览效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156520" y="1964880"/>
            <a:ext cx="546120" cy="43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9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条件格式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33680" y="1143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条件格式示例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自动格式化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9104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2" name="未标题-1" descr=""/>
          <p:cNvPicPr/>
          <p:nvPr/>
        </p:nvPicPr>
        <p:blipFill>
          <a:blip r:embed="rId1"/>
          <a:stretch/>
        </p:blipFill>
        <p:spPr>
          <a:xfrm>
            <a:off x="2585880" y="2286000"/>
            <a:ext cx="3972240" cy="28494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3107880" y="541008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50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自动套用格式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格式的复制、删除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格式复制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方法一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单击“编辑”菜单中的“复制”命令。选择目标区域，单击“编辑”菜单中的“选择性粘贴”命令，在打开的选择性粘贴对话框中选中“格式”按钮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方法二：选“格式刷”按钮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格式删除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选择要删除格式的区域。选择“编辑”菜单中的“清除”命令，在弹出的子菜单中选择“格式”子命令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设置工作表背景图案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89080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未标题-1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5720040" cy="23986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578040" y="522288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51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工作表背景图案示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0" name="未标题-1%20副本" descr=""/>
          <p:cNvPicPr/>
          <p:nvPr/>
        </p:nvPicPr>
        <p:blipFill>
          <a:blip r:embed="rId2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4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创建图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4.4.1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2" action="ppaction://hlinksldjump"/>
              </a:rPr>
              <a:t>使用“图表”工具栏创建简单图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4.4.2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4" action="ppaction://hlinksldjump"/>
              </a:rPr>
              <a:t>利用图表向导创建图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4.4.3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6" action="ppaction://hlinksldjump"/>
              </a:rPr>
              <a:t>图表的编辑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4.4.4 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8" action="ppaction://hlinksldjump"/>
              </a:rPr>
              <a:t>图表格式化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9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未标题-3" descr="">
            <a:hlinkClick r:id="" action="ppaction://hlinkshowjump?jump=firstslide"/>
          </p:cNvPr>
          <p:cNvPicPr/>
          <p:nvPr/>
        </p:nvPicPr>
        <p:blipFill>
          <a:blip r:embed="rId10"/>
          <a:stretch/>
        </p:blipFill>
        <p:spPr>
          <a:xfrm>
            <a:off x="7188120" y="6477120"/>
            <a:ext cx="1955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4.1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使用“图表”工具栏创建简单图表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请您点击鼠标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5748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6" name="book1" descr=""/>
          <p:cNvPicPr/>
          <p:nvPr/>
        </p:nvPicPr>
        <p:blipFill>
          <a:blip r:embed="rId1"/>
          <a:stretch/>
        </p:blipFill>
        <p:spPr>
          <a:xfrm flipH="1" rot="10800000">
            <a:off x="1071720" y="2922120"/>
            <a:ext cx="7000560" cy="8589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228600" y="2133720"/>
            <a:ext cx="1371600" cy="30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6825" y="95963"/>
                </a:moveTo>
                <a:lnTo>
                  <a:pt x="22800" y="8100"/>
                </a:lnTo>
              </a:path>
            </a:pathLst>
          </a:custGeom>
          <a:solidFill>
            <a:srgbClr val="ffcc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图表对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90720" y="5010120"/>
            <a:ext cx="609480" cy="62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27463" y="-48818"/>
                </a:moveTo>
                <a:lnTo>
                  <a:pt x="24300" y="3927"/>
                </a:lnTo>
              </a:path>
            </a:pathLst>
          </a:custGeom>
          <a:solidFill>
            <a:srgbClr val="ffcc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图表类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133880" y="5105520"/>
            <a:ext cx="590400" cy="30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50632" y="-112275"/>
                </a:moveTo>
                <a:lnTo>
                  <a:pt x="24387" y="8100"/>
                </a:lnTo>
              </a:path>
            </a:pathLst>
          </a:custGeom>
          <a:solidFill>
            <a:srgbClr val="ffcc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图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124760" y="1752480"/>
            <a:ext cx="647640" cy="38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3771" y="96840"/>
                </a:moveTo>
                <a:lnTo>
                  <a:pt x="-2541" y="6480"/>
                </a:lnTo>
              </a:path>
            </a:pathLst>
          </a:custGeom>
          <a:solidFill>
            <a:srgbClr val="ffcc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imes New Roman"/>
              </a:rPr>
              <a:t>按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467480" y="4495680"/>
            <a:ext cx="72396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7479" y="-61425"/>
                </a:moveTo>
                <a:lnTo>
                  <a:pt x="-2274" y="8100"/>
                </a:lnTo>
              </a:path>
            </a:pathLst>
          </a:custGeom>
          <a:solidFill>
            <a:srgbClr val="ffcc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按列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55720" y="4322880"/>
            <a:ext cx="7164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29200" y="2133720"/>
            <a:ext cx="1371600" cy="30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875" y="90450"/>
                </a:moveTo>
                <a:lnTo>
                  <a:pt x="-1200" y="8100"/>
                </a:lnTo>
              </a:path>
            </a:pathLst>
          </a:custGeom>
          <a:solidFill>
            <a:srgbClr val="00cc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图表区格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169080" y="5791320"/>
            <a:ext cx="19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52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表工具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83356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6" name="book" descr=""/>
          <p:cNvPicPr/>
          <p:nvPr/>
        </p:nvPicPr>
        <p:blipFill>
          <a:blip r:embed="rId1"/>
          <a:stretch/>
        </p:blipFill>
        <p:spPr>
          <a:xfrm>
            <a:off x="2178000" y="1981080"/>
            <a:ext cx="4375080" cy="32846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2922480" y="5486400"/>
            <a:ext cx="27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54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创建的工作表图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28479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book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4543560" cy="34020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2784600" y="563868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55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按行产生的图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3" name="未标题-1%20副本" descr=""/>
          <p:cNvPicPr/>
          <p:nvPr/>
        </p:nvPicPr>
        <p:blipFill>
          <a:blip r:embed="rId2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4.2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利用图表向导创建图表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41460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6" name="book" descr=""/>
          <p:cNvPicPr/>
          <p:nvPr/>
        </p:nvPicPr>
        <p:blipFill>
          <a:blip r:embed="rId1"/>
          <a:stretch/>
        </p:blipFill>
        <p:spPr>
          <a:xfrm>
            <a:off x="2811600" y="2057400"/>
            <a:ext cx="3519360" cy="32734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4115160" y="556272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56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表向导对话框一：图表类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3840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book7" descr=""/>
          <p:cNvPicPr/>
          <p:nvPr/>
        </p:nvPicPr>
        <p:blipFill>
          <a:blip r:embed="rId1"/>
          <a:stretch/>
        </p:blipFill>
        <p:spPr>
          <a:xfrm>
            <a:off x="1938240" y="2095560"/>
            <a:ext cx="5267520" cy="2666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449880" y="5181480"/>
            <a:ext cx="22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5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拆分框的使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未标题-1%20副本" descr=""/>
          <p:cNvPicPr/>
          <p:nvPr/>
        </p:nvPicPr>
        <p:blipFill>
          <a:blip r:embed="rId2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32892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9" name="book" descr=""/>
          <p:cNvPicPr/>
          <p:nvPr/>
        </p:nvPicPr>
        <p:blipFill>
          <a:blip r:embed="rId1"/>
          <a:srcRect l="641" t="708" r="0" b="0"/>
          <a:stretch/>
        </p:blipFill>
        <p:spPr>
          <a:xfrm>
            <a:off x="685800" y="2209680"/>
            <a:ext cx="3505320" cy="343692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3395520" y="22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1" name="book" descr=""/>
          <p:cNvPicPr/>
          <p:nvPr/>
        </p:nvPicPr>
        <p:blipFill>
          <a:blip r:embed="rId2"/>
          <a:stretch/>
        </p:blipFill>
        <p:spPr>
          <a:xfrm>
            <a:off x="5029200" y="2286000"/>
            <a:ext cx="3168720" cy="32716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1033560" y="5916600"/>
            <a:ext cx="31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4-57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图表向导对话框二：数据源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444640" y="5638680"/>
            <a:ext cx="28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58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系列产生在“行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340056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6" name="book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256200" cy="3429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21480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8" name="book" descr=""/>
          <p:cNvPicPr/>
          <p:nvPr/>
        </p:nvPicPr>
        <p:blipFill>
          <a:blip r:embed="rId2"/>
          <a:srcRect l="1105" t="1141" r="0" b="0"/>
          <a:stretch/>
        </p:blipFill>
        <p:spPr>
          <a:xfrm>
            <a:off x="4495680" y="2176560"/>
            <a:ext cx="4343400" cy="268128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533520" y="5791320"/>
            <a:ext cx="30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4-59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设置系列名称和分类轴标志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10080" y="5257800"/>
            <a:ext cx="266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4-60 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表向导对话框三：图表选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329580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3" name="book" descr=""/>
          <p:cNvPicPr/>
          <p:nvPr/>
        </p:nvPicPr>
        <p:blipFill>
          <a:blip r:embed="rId1"/>
          <a:stretch/>
        </p:blipFill>
        <p:spPr>
          <a:xfrm>
            <a:off x="1509840" y="2181240"/>
            <a:ext cx="5972040" cy="234144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2759760" y="510552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61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表向导对话框：图表位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267660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7" name="book" descr=""/>
          <p:cNvPicPr/>
          <p:nvPr/>
        </p:nvPicPr>
        <p:blipFill>
          <a:blip r:embed="rId1"/>
          <a:stretch/>
        </p:blipFill>
        <p:spPr>
          <a:xfrm>
            <a:off x="2328840" y="2057400"/>
            <a:ext cx="4334040" cy="32558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2759760" y="548640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62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用图表向导创建的独立图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9" name="未标题-1%20副本" descr=""/>
          <p:cNvPicPr/>
          <p:nvPr/>
        </p:nvPicPr>
        <p:blipFill>
          <a:blip r:embed="rId2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4.3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图表的编辑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676520" y="20574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图表对象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图表的移动、复制、缩放和删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图表类型的改变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图表中数据的编辑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图表中文字的编辑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显示效果的设置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266688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3" name="book" descr=""/>
          <p:cNvPicPr/>
          <p:nvPr/>
        </p:nvPicPr>
        <p:blipFill>
          <a:blip r:embed="rId1"/>
          <a:stretch/>
        </p:blipFill>
        <p:spPr>
          <a:xfrm>
            <a:off x="2324160" y="2133720"/>
            <a:ext cx="4343400" cy="32479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3297240" y="556272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63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表对象示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4920" y="106668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图表对象示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图表中数据的编辑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676520" y="2514240"/>
            <a:ext cx="678168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删除数据系列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向图表添加数据系列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图表中数据系列次序的调整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351000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未标题-2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5634000" cy="25765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2860560" y="525780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64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添加数据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342900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4" name="未标题-2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33879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2556000" y="556272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65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系列次序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图表中文字的编辑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增加图表标题和坐标轴标题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增加数据标志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1004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0" name="book1" descr=""/>
          <p:cNvPicPr/>
          <p:nvPr/>
        </p:nvPicPr>
        <p:blipFill>
          <a:blip r:embed="rId1"/>
          <a:stretch/>
        </p:blipFill>
        <p:spPr>
          <a:xfrm>
            <a:off x="2324160" y="3352680"/>
            <a:ext cx="4343400" cy="26733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3352680" y="4419720"/>
            <a:ext cx="1752840" cy="91116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581280" y="4648320"/>
            <a:ext cx="914400" cy="45720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429000" y="4038480"/>
            <a:ext cx="1600200" cy="0"/>
          </a:xfrm>
          <a:prstGeom prst="line">
            <a:avLst/>
          </a:prstGeom>
          <a:ln w="648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71080" y="3657600"/>
            <a:ext cx="127764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66   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表选项”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1.3   Excel 200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的退出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退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l 2000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方法很多，常用方法有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单击应用程序标题栏最右端的（关闭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按钮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打开“文件”菜单，单击“退出”命令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如果退出前文件已被修改，系统将提示是否保存修改的内容，这时可根据是否要保存文件来回答“是”或“否”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未标题-1%20副本" descr=""/>
          <p:cNvPicPr/>
          <p:nvPr/>
        </p:nvPicPr>
        <p:blipFill>
          <a:blip r:embed="rId1"/>
          <a:stretch/>
        </p:blipFill>
        <p:spPr>
          <a:xfrm>
            <a:off x="6781680" y="640548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显示效果的设置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285640" y="21337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图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网格线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三维图表视角的改变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05280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9" name="book1" descr=""/>
          <p:cNvPicPr/>
          <p:nvPr/>
        </p:nvPicPr>
        <p:blipFill>
          <a:blip r:embed="rId1"/>
          <a:srcRect l="1965" t="1954" r="0" b="0"/>
          <a:stretch/>
        </p:blipFill>
        <p:spPr>
          <a:xfrm>
            <a:off x="1828800" y="2133720"/>
            <a:ext cx="5334120" cy="33112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3042000" y="563868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67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添加网格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2288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3" name="book1" descr=""/>
          <p:cNvPicPr/>
          <p:nvPr/>
        </p:nvPicPr>
        <p:blipFill>
          <a:blip r:embed="rId1"/>
          <a:srcRect l="0" t="2818" r="2827" b="0"/>
          <a:stretch/>
        </p:blipFill>
        <p:spPr>
          <a:xfrm>
            <a:off x="1957320" y="2286000"/>
            <a:ext cx="5076720" cy="30243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3120840" y="552780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68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设置三维视角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5" name="未标题-1%20副本" descr=""/>
          <p:cNvPicPr/>
          <p:nvPr/>
        </p:nvPicPr>
        <p:blipFill>
          <a:blip r:embed="rId2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4.4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图表格式化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要对图表对象进行格式化可以有三种方法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选择要编辑的对象，单击“格式”菜单中增加的该对象选项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在图表中直接双击要进行编辑的对象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在要进行格式化的对象上点击鼠标右键，在弹出菜单中选择对象格式命令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38616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0" name="book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3810240" cy="313704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338616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2" name="book" descr=""/>
          <p:cNvPicPr/>
          <p:nvPr/>
        </p:nvPicPr>
        <p:blipFill>
          <a:blip r:embed="rId2"/>
          <a:srcRect l="0" t="1841" r="1791" b="0"/>
          <a:stretch/>
        </p:blipFill>
        <p:spPr>
          <a:xfrm>
            <a:off x="4800600" y="2603520"/>
            <a:ext cx="3657600" cy="30258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073160" y="5867280"/>
            <a:ext cx="29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69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绘画区格式对话框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175360" y="2057400"/>
            <a:ext cx="29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70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坐标轴格式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5" name="未标题-1%20副本" descr=""/>
          <p:cNvPicPr/>
          <p:nvPr/>
        </p:nvPicPr>
        <p:blipFill>
          <a:blip r:embed="rId3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5    Excel 2000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数据处理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133720" y="22096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4.5.1 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2" action="ppaction://hlinksldjump"/>
              </a:rPr>
              <a:t>建立数据表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4.5.2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4" action="ppaction://hlinksldjump"/>
              </a:rPr>
              <a:t>使用记录单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4.5.3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6" action="ppaction://hlinksldjump"/>
              </a:rPr>
              <a:t>筛选数据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4.5.4 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8" action="ppaction://hlinksldjump"/>
              </a:rPr>
              <a:t>数据排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4.5.5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10" action="ppaction://hlinksldjump"/>
              </a:rPr>
              <a:t>分类汇总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11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未标题-3" descr="">
            <a:hlinkClick r:id="" action="ppaction://hlinkshowjump?jump=firstslide"/>
          </p:cNvPr>
          <p:cNvPicPr/>
          <p:nvPr/>
        </p:nvPicPr>
        <p:blipFill>
          <a:blip r:embed="rId12"/>
          <a:stretch/>
        </p:blipFill>
        <p:spPr>
          <a:xfrm>
            <a:off x="7188120" y="6477120"/>
            <a:ext cx="1955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5.1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建立数据表格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Excel  200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建立数据表格十分简单，前面章节例子中的工作表都是数据表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下面介绍几个术语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字段：数据表的一列称为字段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记录：数据表的一行称为记录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字段名：在数据表的顶行通常有字段名，字段名是字段内容的概括和说明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97180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3" name="未命名 -2" descr=""/>
          <p:cNvPicPr/>
          <p:nvPr/>
        </p:nvPicPr>
        <p:blipFill>
          <a:blip r:embed="rId1"/>
          <a:stretch/>
        </p:blipFill>
        <p:spPr>
          <a:xfrm>
            <a:off x="1409760" y="2286000"/>
            <a:ext cx="6172200" cy="273672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3058920" y="5299200"/>
            <a:ext cx="27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71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数据表行列示意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建立和使用数据表格时，用户应注意以下几个问题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避免在一张工作表中建立多个数据表格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数据表格的数据和其他数据之间至少留出一个空行和空列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避免在数据表格的各条记录或各个字段之间放置空行和空列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最好使用列名，而且把列名作为字段的名称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字段名的字体，对齐方式等格式最好与数据表中其他数据相区别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7" name="未标题-1%20副本" descr=""/>
          <p:cNvPicPr/>
          <p:nvPr/>
        </p:nvPicPr>
        <p:blipFill>
          <a:blip r:embed="rId1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5.2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使用记录单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904760" y="2590560"/>
            <a:ext cx="6629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使用记录单添加数据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使用记录单修改和删除记录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使用记录单搜索条件匹配的记录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1.4   Excel 200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中文版新功能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28800" y="20574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新增“剪贴板“工具栏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工作表格区采用透明模式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新增“检测与修复“功能选项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日期格式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语种设置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功能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脚本编辑器”选项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安全性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Office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助手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未标题-1%20副本" descr=""/>
          <p:cNvPicPr/>
          <p:nvPr/>
        </p:nvPicPr>
        <p:blipFill>
          <a:blip r:embed="rId1"/>
          <a:stretch/>
        </p:blipFill>
        <p:spPr>
          <a:xfrm>
            <a:off x="6781680" y="640548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使用记录单添加数据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09880" y="26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2" name="未命名 -3" descr=""/>
          <p:cNvPicPr/>
          <p:nvPr/>
        </p:nvPicPr>
        <p:blipFill>
          <a:blip r:embed="rId1"/>
          <a:stretch/>
        </p:blipFill>
        <p:spPr>
          <a:xfrm>
            <a:off x="2516040" y="2057400"/>
            <a:ext cx="3786480" cy="38098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6861240" y="1766520"/>
            <a:ext cx="546120" cy="45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72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记录新建对话框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．使用记录单修改和删除记录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5" name="未标题-5" descr=""/>
          <p:cNvPicPr/>
          <p:nvPr/>
        </p:nvPicPr>
        <p:blipFill>
          <a:blip r:embed="rId1"/>
          <a:stretch/>
        </p:blipFill>
        <p:spPr>
          <a:xfrm>
            <a:off x="2209680" y="2133720"/>
            <a:ext cx="4572000" cy="377496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7089120" y="2438280"/>
            <a:ext cx="9118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73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使用记录单修改记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  <a:ea typeface="楷体_GB2312"/>
            </a:endParaRPr>
          </a:p>
        </p:txBody>
      </p:sp>
      <p:sp>
        <p:nvSpPr>
          <p:cNvPr id="468" name=""/>
          <p:cNvSpPr/>
          <p:nvPr/>
        </p:nvSpPr>
        <p:spPr>
          <a:xfrm>
            <a:off x="275256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9" name="Untitled-2" descr=""/>
          <p:cNvPicPr/>
          <p:nvPr/>
        </p:nvPicPr>
        <p:blipFill>
          <a:blip r:embed="rId1"/>
          <a:stretch/>
        </p:blipFill>
        <p:spPr>
          <a:xfrm>
            <a:off x="1147680" y="2438280"/>
            <a:ext cx="6696000" cy="248940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3031920" y="525780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74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记录修改后的数据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  <a:ea typeface="楷体_GB2312"/>
            </a:endParaRPr>
          </a:p>
        </p:txBody>
      </p:sp>
      <p:sp>
        <p:nvSpPr>
          <p:cNvPr id="472" name=""/>
          <p:cNvSpPr/>
          <p:nvPr/>
        </p:nvSpPr>
        <p:spPr>
          <a:xfrm>
            <a:off x="369576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3" name="未标题-8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4991400" cy="21430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3213000" y="502920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75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确定记录的删除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使用记录单搜索条件匹配的记录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73392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7" name="未标题-10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2878200" cy="31240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370044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9" name="未命名 -5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3033720" cy="310068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1006920" y="5715000"/>
            <a:ext cx="26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76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输入查询条件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165640" y="5257800"/>
            <a:ext cx="329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4-77 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查找到满足条件的第一条记录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2" name="未标题-1%20副本" descr=""/>
          <p:cNvPicPr/>
          <p:nvPr/>
        </p:nvPicPr>
        <p:blipFill>
          <a:blip r:embed="rId3"/>
          <a:stretch/>
        </p:blipFill>
        <p:spPr>
          <a:xfrm>
            <a:off x="6781680" y="6394320"/>
            <a:ext cx="209556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4.5.3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筛选数据表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819520" y="2209680"/>
            <a:ext cx="4876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自动筛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自定义筛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高级筛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自动筛选示例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78 --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82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64780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7" name="未命名 -2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191280" cy="268128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3288960" y="533412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78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下拉箭头按扭的选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  <a:ea typeface="楷体_GB2312"/>
            </a:endParaRPr>
          </a:p>
        </p:txBody>
      </p:sp>
      <p:sp>
        <p:nvSpPr>
          <p:cNvPr id="490" name=""/>
          <p:cNvSpPr/>
          <p:nvPr/>
        </p:nvSpPr>
        <p:spPr>
          <a:xfrm>
            <a:off x="233352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1" name="Untitled-3" descr=""/>
          <p:cNvPicPr/>
          <p:nvPr/>
        </p:nvPicPr>
        <p:blipFill>
          <a:blip r:embed="rId1"/>
          <a:stretch/>
        </p:blipFill>
        <p:spPr>
          <a:xfrm>
            <a:off x="747720" y="2451240"/>
            <a:ext cx="7496280" cy="18018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2831760" y="472428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79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自动筛选之后的清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  <a:ea typeface="楷体_GB2312"/>
            </a:endParaRPr>
          </a:p>
        </p:txBody>
      </p:sp>
      <p:sp>
        <p:nvSpPr>
          <p:cNvPr id="494" name=""/>
          <p:cNvSpPr/>
          <p:nvPr/>
        </p:nvSpPr>
        <p:spPr>
          <a:xfrm>
            <a:off x="225252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5" name="未命名 -2" descr=""/>
          <p:cNvPicPr/>
          <p:nvPr/>
        </p:nvPicPr>
        <p:blipFill>
          <a:blip r:embed="rId1"/>
          <a:stretch/>
        </p:blipFill>
        <p:spPr>
          <a:xfrm>
            <a:off x="744480" y="2743200"/>
            <a:ext cx="7500960" cy="172548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2941200" y="487692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80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多条件筛选的筛选结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33242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8" name="未标题-16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5010120" cy="175896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7088400" y="2286000"/>
            <a:ext cx="127764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81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设置筛选条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78604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1" name="未命名 -2" descr=""/>
          <p:cNvPicPr/>
          <p:nvPr/>
        </p:nvPicPr>
        <p:blipFill>
          <a:blip r:embed="rId2"/>
          <a:stretch/>
        </p:blipFill>
        <p:spPr>
          <a:xfrm>
            <a:off x="1600200" y="4191120"/>
            <a:ext cx="5257800" cy="175248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7104240" y="4191120"/>
            <a:ext cx="127764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82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筛选结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4T00:56:58Z</dcterms:created>
  <dc:creator>gsjf</dc:creator>
  <dc:description/>
  <dc:language>en-US</dc:language>
  <cp:lastModifiedBy>gsjf</cp:lastModifiedBy>
  <dcterms:modified xsi:type="dcterms:W3CDTF">2001-09-07T14:33:04Z</dcterms:modified>
  <cp:revision>110</cp:revision>
  <dc:subject/>
  <dc:title>竞争分析</dc:title>
</cp:coreProperties>
</file>